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F00-1ADD-45D9-B427-727FE33D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1DB-3A82-425E-A9D4-D5F12ABE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263-0EFB-4F91-A060-B6F1BC6D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3A0-7632-42CB-975E-8AD4E792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CA7-EBEE-4281-A8EF-EBACE764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20F-1284-4B06-A480-4457977C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C6C-476F-4DC9-9BF6-2EBDF89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8F7-B253-4155-98A9-0F84D1B5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57F-2BAE-462F-83F3-B92B92E8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F61-6BB0-45EB-ABC3-B412C78B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603-13EE-4E69-91C8-59DC5DA8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F5C-7D20-4FF9-A8C7-77550B13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BA5A-6076-4214-AAC4-8E18F140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50760"/>
            <a:ext cx="9396360" cy="729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rinthian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4456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14600" y="1981080"/>
            <a:ext cx="6324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ce is located on the continent of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1A2-FF16-4E69-BEB6-C7AD7DB9F3D0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1981080"/>
            <a:ext cx="632448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body of water borders Greece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Mediterranean Sea or the Indian Oc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doric%20shor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368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D72-E660-44DB-82E9-915E610D5FE9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981080"/>
            <a:ext cx="6324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uge body of water that borders Greece is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doric%20shor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368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929-35A4-4840-BCEC-3A06FBE96FE6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1981080"/>
            <a:ext cx="63244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nter of Greece is full of wha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dra or Mou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onic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855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7DB-EA3C-4801-983E-3848FAEC5157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81080"/>
            <a:ext cx="6324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nter of Gree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full of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onic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855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C54-EF7A-459E-AADF-A9BF013B965E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eograp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0920" y="1290600"/>
            <a:ext cx="5545440" cy="396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4952880"/>
            <a:ext cx="821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reek Ge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                     Mountai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ian Peninsula           Huge Coa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6DE-A908-475B-89CA-AB9222A9BB5E}" type="slidenum">
              <a:t>15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oof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302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167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8520" y="3505320"/>
            <a:ext cx="821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eograp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3960" y="3352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E84-D80D-422F-B9BD-78E99E77EE32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eograp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0920" y="1366920"/>
            <a:ext cx="5545440" cy="3967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486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Sylfaen"/>
              </a:rPr>
              <a:t>Where is Ancient Greec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F57-0128-4453-80E1-4DF3CA39C0CF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eograph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1752480"/>
            <a:ext cx="356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ce is located on the continent of Europe, on the Ionian Peninsula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ce is surrounded on three sides by water, as all peninsulas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reece%20page%2054%20art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53384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D39-C92A-4ABF-A3FC-ED9FA11A7E43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eograp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733400"/>
            <a:ext cx="304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hree seas are the Ionian Sea, the Aegean Sea, and the Mediterranean Sea. It’s no wonder that the ancient Greeks were such great sailor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greece%20page%2055%20art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515304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631-BD1B-4B13-B5EE-81CAA6C1787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eograp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0020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nter of Greece has mountains—not huge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, but you would certainly notice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them if you tried to walk from 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side of Greece to the o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greece%20page%2053%20art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6096240" cy="43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FD8-2FAD-473E-A387-9E0CAADC4A5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eograp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74320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than climb big mountains every day, the ancient Greeks chose to live along the huge coastline where food was plentifu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eece%20page%2082%20art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914640" cy="50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C14-322E-4DF3-95B6-027BCE35D572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eograp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600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eks were great sailors, fishermen, and  farmers! They grew olives, lemons, oranges, tomatoes, vegetables, and wheat to make bre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reece%20page%2051%20art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25779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E00-1BF9-49D7-A050-5D2A8B2A2964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rinthian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44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14600" y="1981080"/>
            <a:ext cx="63244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what continent is Greece located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, Asia, or Europ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C61-4C74-4C49-A10F-F31BEF26569F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0:35:48Z</dcterms:created>
  <dc:creator>pmartin</dc:creator>
  <dc:description/>
  <dc:language>en-US</dc:language>
  <cp:lastModifiedBy>Christina Trejo</cp:lastModifiedBy>
  <dcterms:modified xsi:type="dcterms:W3CDTF">2006-08-04T21:30:1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1483346</vt:r8>
  </property>
  <property fmtid="{D5CDD505-2E9C-101B-9397-08002B2CF9AE}" pid="3" name="_AuthorEmail">
    <vt:lpwstr>PMartin@AIS-antwerp.be</vt:lpwstr>
  </property>
  <property fmtid="{D5CDD505-2E9C-101B-9397-08002B2CF9AE}" pid="4" name="_AuthorEmailDisplayName">
    <vt:lpwstr>Phillip Martin</vt:lpwstr>
  </property>
  <property fmtid="{D5CDD505-2E9C-101B-9397-08002B2CF9AE}" pid="5" name="_EmailSubject">
    <vt:lpwstr>Final finally</vt:lpwstr>
  </property>
</Properties>
</file>