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075D6-22E9-4D65-8C8B-F42C17E331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LINE PRONUNCIATION GUID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e free online adult version of Merriam-Webster Online Dictionary has an audio track as well as definitions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page: http://www.m-w.c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 Notes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nunciation: zus  (rhymes with loo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2737-C0A0-45A7-BF3B-010702FC0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44B7-1A5E-4234-B487-A990E0AAD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62F6-112C-4D9F-B70B-B5AD731CE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8489-3F75-4EF6-8618-4603D8BAA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A355-850D-4607-9BEE-F1A6160DF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74F2-4790-4E97-8FEF-D219A3B4D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08ED-8F76-49C3-9323-E685CEE03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51EA-897E-451F-95D1-A984D663B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4BF7-DD87-4649-83A9-C16B75F0B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77C8-73F6-4702-8F29-3B04C7E9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33FA-6308-4EEF-A699-4157BA85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E0E7-7CF6-41F7-B7DD-49D4C647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4B3DF-8E90-4B2A-A6EE-3AE16B9DE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-50760"/>
            <a:ext cx="9396360" cy="7299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Zeu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1280" y="1341360"/>
            <a:ext cx="4570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ncient Greeks built   temples to honor their many go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visited two or thre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mples each day, seeking advice and guidance. They left behind small gifts as offering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greece%20page%2017%20art" descr=""/>
          <p:cNvPicPr/>
          <p:nvPr/>
        </p:nvPicPr>
        <p:blipFill>
          <a:blip r:embed="rId2"/>
          <a:stretch/>
        </p:blipFill>
        <p:spPr>
          <a:xfrm>
            <a:off x="4876920" y="914400"/>
            <a:ext cx="351000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E552-8471-4CDE-A549-290612289203}" type="slidenum">
              <a:t>10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Zeu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219320"/>
            <a:ext cx="4265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ng of the s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: Ruler of the g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w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k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a (main wif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onality: Vari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greece%20page%2017%20art" descr=""/>
          <p:cNvPicPr/>
          <p:nvPr/>
        </p:nvPicPr>
        <p:blipFill>
          <a:blip r:embed="rId2"/>
          <a:stretch/>
        </p:blipFill>
        <p:spPr>
          <a:xfrm>
            <a:off x="4876920" y="914400"/>
            <a:ext cx="351000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F43B-E48A-4A67-A6DE-D078DEAD510B}" type="slidenum">
              <a:t>11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Had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1522440"/>
            <a:ext cx="4951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other of Z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b: King of the underworld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onality: Glo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greece%20page%2038%20art" descr=""/>
          <p:cNvPicPr/>
          <p:nvPr/>
        </p:nvPicPr>
        <p:blipFill>
          <a:blip r:embed="rId2"/>
          <a:stretch/>
        </p:blipFill>
        <p:spPr>
          <a:xfrm>
            <a:off x="4983120" y="1600200"/>
            <a:ext cx="336888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B9AF-8B45-49D3-8FB6-CB1DE3193427}" type="slidenum">
              <a:t>12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Had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1341360"/>
            <a:ext cx="44942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des was a gloomy fellow. He had a seat on Mount Olympus, the magical mountain on which all the main gods, the Olympians, liv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Hades did not live on Mount Olympus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greece%20page%2038%20art" descr=""/>
          <p:cNvPicPr/>
          <p:nvPr/>
        </p:nvPicPr>
        <p:blipFill>
          <a:blip r:embed="rId2"/>
          <a:stretch/>
        </p:blipFill>
        <p:spPr>
          <a:xfrm>
            <a:off x="4983120" y="1600200"/>
            <a:ext cx="336888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EE69-83AA-43B2-8285-EC9CE8B6C458}" type="slidenum">
              <a:t>13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Had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1341360"/>
            <a:ext cx="4417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rarely visited Mount Olympu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preferred to stay in his gloomy palace with his best friend, his three-headed dog, Cerberu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greece%20page%2038%20art" descr=""/>
          <p:cNvPicPr/>
          <p:nvPr/>
        </p:nvPicPr>
        <p:blipFill>
          <a:blip r:embed="rId2"/>
          <a:stretch/>
        </p:blipFill>
        <p:spPr>
          <a:xfrm>
            <a:off x="4983120" y="1600200"/>
            <a:ext cx="336888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9680-8271-49D9-B1A7-B2C7085BC5C3}" type="slidenum">
              <a:t>14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Poseid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1280" y="1552680"/>
            <a:ext cx="4265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other of Z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b: King of the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onality: Rest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w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greece%20page%2048a%20art" descr=""/>
          <p:cNvPicPr/>
          <p:nvPr/>
        </p:nvPicPr>
        <p:blipFill>
          <a:blip r:embed="rId2"/>
          <a:stretch/>
        </p:blipFill>
        <p:spPr>
          <a:xfrm>
            <a:off x="4876920" y="1600200"/>
            <a:ext cx="3657600" cy="428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6400-4469-4D8F-BB2F-8EE41644A5DA}" type="slidenum">
              <a:t>15</a:t>
            </a:fld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Poseid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1280" y="1341360"/>
            <a:ext cx="4265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eidon was moody and restless. He was never home. He was always on the mov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had deep blue eyes and streaming sea-green ha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greece%20page%2048a%20art" descr=""/>
          <p:cNvPicPr/>
          <p:nvPr/>
        </p:nvPicPr>
        <p:blipFill>
          <a:blip r:embed="rId2"/>
          <a:stretch/>
        </p:blipFill>
        <p:spPr>
          <a:xfrm>
            <a:off x="4876920" y="1600200"/>
            <a:ext cx="3657600" cy="428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31A5-F5E9-44F8-8F2E-FDF94D18D23F}" type="slidenum">
              <a:t>16</a:t>
            </a:fld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Poseid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86200" y="1341360"/>
            <a:ext cx="4952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eidon was very powerful. He could raise his hand and a new island would appear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ncient Greeks were terrified of Poseidon, but they certainly wanted him on their side, especially if they were at sea or lived in a coastal tow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greece%20page%2048a%20art" descr=""/>
          <p:cNvPicPr/>
          <p:nvPr/>
        </p:nvPicPr>
        <p:blipFill>
          <a:blip r:embed="rId2"/>
          <a:stretch/>
        </p:blipFill>
        <p:spPr>
          <a:xfrm>
            <a:off x="0" y="1676520"/>
            <a:ext cx="3657600" cy="428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F6E0-D819-4600-A707-EA51DD3904B1}" type="slidenum">
              <a:t>17</a:t>
            </a:fld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Poseid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1341360"/>
            <a:ext cx="4265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ke Zeus, Poseidon had many wives and many childr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 main wife was not jealous. So he did not have the problems at home that Zeus di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greece%20page%2048a%20art" descr=""/>
          <p:cNvPicPr/>
          <p:nvPr/>
        </p:nvPicPr>
        <p:blipFill>
          <a:blip r:embed="rId2"/>
          <a:stretch/>
        </p:blipFill>
        <p:spPr>
          <a:xfrm>
            <a:off x="4952880" y="1523880"/>
            <a:ext cx="3657600" cy="428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9715-937B-445D-A61B-10C70398D495}" type="slidenum">
              <a:t>18</a:t>
            </a:fld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Her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1280" y="1341360"/>
            <a:ext cx="4265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fe of Z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b: Queen of the g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onality: Extremely     jeal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greece%20page%20121%20art" descr=""/>
          <p:cNvPicPr/>
          <p:nvPr/>
        </p:nvPicPr>
        <p:blipFill>
          <a:blip r:embed="rId2"/>
          <a:stretch/>
        </p:blipFill>
        <p:spPr>
          <a:xfrm>
            <a:off x="4419720" y="1447920"/>
            <a:ext cx="4152960" cy="428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F640-71F3-45D5-A015-1D1D960ACD6B}" type="slidenum">
              <a:t>19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roof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0" cy="30258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31672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Sylfaen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8520" y="3505320"/>
            <a:ext cx="8211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 </a:t>
            </a: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Greek Gods and Goddess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953960" y="33526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2B04-976C-4D53-A46F-081E365DBF05}" type="slidenum">
              <a:t>2</a:t>
            </a:fld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Her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1341360"/>
            <a:ext cx="4265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a was Zeus’s sister and wife. She was incredibly jealou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many Greek myths about Hera and her jealou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greece%20page%20121%20art" descr=""/>
          <p:cNvPicPr/>
          <p:nvPr/>
        </p:nvPicPr>
        <p:blipFill>
          <a:blip r:embed="rId2"/>
          <a:stretch/>
        </p:blipFill>
        <p:spPr>
          <a:xfrm>
            <a:off x="4419720" y="1447920"/>
            <a:ext cx="4152960" cy="428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96D2-1CBC-443F-8DE2-690A03CC253B}" type="slidenum">
              <a:t>20</a:t>
            </a:fld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Her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11280" y="1341360"/>
            <a:ext cx="4265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myths are about Hera’s servant, Argus. Argus had 100 bright eyes all over his bod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was a great guard because he nev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osed more than hal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 eyes at one time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greece%20page%20121%20art" descr=""/>
          <p:cNvPicPr/>
          <p:nvPr/>
        </p:nvPicPr>
        <p:blipFill>
          <a:blip r:embed="rId2"/>
          <a:stretch/>
        </p:blipFill>
        <p:spPr>
          <a:xfrm>
            <a:off x="4419720" y="1447920"/>
            <a:ext cx="4152960" cy="428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34AE-71AD-459D-9161-DBA5DFF697BC}" type="slidenum">
              <a:t>21</a:t>
            </a:fld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Athen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1280" y="1341360"/>
            <a:ext cx="4494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ughter of Ze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rn from Zeus’s 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b: Goddess of wis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onality: Wise, gen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greece%20page%2050a%20art" descr=""/>
          <p:cNvPicPr/>
          <p:nvPr/>
        </p:nvPicPr>
        <p:blipFill>
          <a:blip r:embed="rId2"/>
          <a:stretch/>
        </p:blipFill>
        <p:spPr>
          <a:xfrm>
            <a:off x="4572000" y="1295280"/>
            <a:ext cx="3838680" cy="428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9F9D-8369-4C44-A3F5-32FA9231D552}" type="slidenum">
              <a:t>22</a:t>
            </a:fld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Athen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1280" y="1341360"/>
            <a:ext cx="5256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hena was born directly out of Zeus’s head. She did not have a mother, only a father, the mighty Zeu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eus loved all h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ldren.  If he had a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vorite, it was probabl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hena, the goddess of wisdo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greece%20page%2050a%20art" descr=""/>
          <p:cNvPicPr/>
          <p:nvPr/>
        </p:nvPicPr>
        <p:blipFill>
          <a:blip r:embed="rId2"/>
          <a:stretch/>
        </p:blipFill>
        <p:spPr>
          <a:xfrm>
            <a:off x="4572000" y="1295280"/>
            <a:ext cx="3838680" cy="428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260B-DF32-43F3-A9FC-CC67CD955C59}" type="slidenum">
              <a:t>23</a:t>
            </a:fld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Apollo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11280" y="1341360"/>
            <a:ext cx="4722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n of Ze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of reason, music,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onality: Peaceful    unless someone wa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setting his mother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entle L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106960" y="1600200"/>
            <a:ext cx="373212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391C-ED30-47C4-BA69-0AC541F9AA50}" type="slidenum">
              <a:t>24</a:t>
            </a:fld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Apollo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1280" y="1341360"/>
            <a:ext cx="46465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ollo and Artemis were twins. Their father was Zeus. Their mother was the gentle Leto. The twins adored their moth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arly everyone was fond of Apollo. He was the god of reason, music, and l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106960" y="1600200"/>
            <a:ext cx="373212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55D7-A413-4C8A-9948-99BAEC3DB746}" type="slidenum">
              <a:t>25</a:t>
            </a:fld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Artem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1341360"/>
            <a:ext cx="4265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ughter of Ze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ollo’s twin s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b: Goddess of the                     h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onality: Piti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greece%20page%20125%20art" descr=""/>
          <p:cNvPicPr/>
          <p:nvPr/>
        </p:nvPicPr>
        <p:blipFill>
          <a:blip r:embed="rId2"/>
          <a:stretch/>
        </p:blipFill>
        <p:spPr>
          <a:xfrm>
            <a:off x="4048200" y="1600200"/>
            <a:ext cx="5019480" cy="428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277B-CDCF-4333-813E-D86533ABEC67}" type="slidenum">
              <a:t>26</a:t>
            </a:fld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Artem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1280" y="1341360"/>
            <a:ext cx="3884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temis was cold and pitiless. The only thing she loved besides her family were 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oppy-eared do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temis was the goddess of the hu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greece%20page%20125%20art" descr=""/>
          <p:cNvPicPr/>
          <p:nvPr/>
        </p:nvPicPr>
        <p:blipFill>
          <a:blip r:embed="rId2"/>
          <a:stretch/>
        </p:blipFill>
        <p:spPr>
          <a:xfrm>
            <a:off x="4048200" y="1600200"/>
            <a:ext cx="5019480" cy="428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A6ED-3A45-4CDF-8486-6D54CFBE98E4}" type="slidenum">
              <a:t>27</a:t>
            </a:fld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Ares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1341360"/>
            <a:ext cx="4265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n of Z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b: God of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onality: Vain and self-cent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greece%20page%20124%20art" descr=""/>
          <p:cNvPicPr/>
          <p:nvPr/>
        </p:nvPicPr>
        <p:blipFill>
          <a:blip r:embed="rId2"/>
          <a:stretch/>
        </p:blipFill>
        <p:spPr>
          <a:xfrm>
            <a:off x="5105520" y="1447920"/>
            <a:ext cx="3152520" cy="428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5FAF-27D9-4B74-BFAC-6CC0B7C71A86}" type="slidenum">
              <a:t>28</a:t>
            </a:fld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Ares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1280" y="1341360"/>
            <a:ext cx="4265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s was tall, handsome, and just plain mean.  Eris, the spirit of disagreement, traveled with him. They carried with them Pain, Panic, Famine, and Obliv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s was the god of w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greece%20page%20124%20art" descr=""/>
          <p:cNvPicPr/>
          <p:nvPr/>
        </p:nvPicPr>
        <p:blipFill>
          <a:blip r:embed="rId2"/>
          <a:stretch/>
        </p:blipFill>
        <p:spPr>
          <a:xfrm>
            <a:off x="5105520" y="1447920"/>
            <a:ext cx="3152520" cy="428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AA33-B083-4C16-990E-2146F888EE42}" type="slidenum">
              <a:t>29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Greek 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Gods and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Goddess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1341360"/>
            <a:ext cx="426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greece%20page%2017%20art" descr=""/>
          <p:cNvPicPr/>
          <p:nvPr/>
        </p:nvPicPr>
        <p:blipFill>
          <a:blip r:embed="rId2"/>
          <a:stretch/>
        </p:blipFill>
        <p:spPr>
          <a:xfrm>
            <a:off x="4495680" y="838080"/>
            <a:ext cx="4078440" cy="525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F264-2F53-42C2-AF29-B9D598CB5C01}" type="slidenum">
              <a:t>3</a:t>
            </a:fld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Herm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1280" y="1341360"/>
            <a:ext cx="4265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n of Ze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b: Messenger of the g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onality: Play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greece%20page%20126%20art" descr=""/>
          <p:cNvPicPr/>
          <p:nvPr/>
        </p:nvPicPr>
        <p:blipFill>
          <a:blip r:embed="rId2"/>
          <a:stretch/>
        </p:blipFill>
        <p:spPr>
          <a:xfrm>
            <a:off x="4191120" y="1371600"/>
            <a:ext cx="4876560" cy="428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2427-DC95-4106-B03F-E6F42A006C79}" type="slidenum">
              <a:t>30</a:t>
            </a:fld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Herm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1280" y="1341360"/>
            <a:ext cx="4113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mes was born mischievous. Ze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new right away that Hermes was go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be a lot of fun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e arou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mes was the messenger of the go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greece%20page%20126%20art" descr=""/>
          <p:cNvPicPr/>
          <p:nvPr/>
        </p:nvPicPr>
        <p:blipFill>
          <a:blip r:embed="rId2"/>
          <a:stretch/>
        </p:blipFill>
        <p:spPr>
          <a:xfrm>
            <a:off x="3886200" y="1371600"/>
            <a:ext cx="4876920" cy="428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4DC0-712F-436B-B899-E43AC122245D}" type="slidenum">
              <a:t>31</a:t>
            </a:fld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Aphrodit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1371600"/>
            <a:ext cx="4265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ents: Unkn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b: Goddess of l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onality: Mo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hrodite could be kind or mercil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greece%20page%20127%20art" descr=""/>
          <p:cNvPicPr/>
          <p:nvPr/>
        </p:nvPicPr>
        <p:blipFill>
          <a:blip r:embed="rId2"/>
          <a:stretch/>
        </p:blipFill>
        <p:spPr>
          <a:xfrm>
            <a:off x="4572000" y="1371600"/>
            <a:ext cx="3828960" cy="428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6051-9F8F-4663-A004-E926BA455495}" type="slidenum">
              <a:t>32</a:t>
            </a:fld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Aphrodit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1280" y="1341360"/>
            <a:ext cx="4646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her son, Eros, shot his little arrows into an unwary victim, that victim fell in love with the ver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xt person they saw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hrodite was th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dess of lov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greece%20page%20127%20art" descr=""/>
          <p:cNvPicPr/>
          <p:nvPr/>
        </p:nvPicPr>
        <p:blipFill>
          <a:blip r:embed="rId2"/>
          <a:stretch/>
        </p:blipFill>
        <p:spPr>
          <a:xfrm>
            <a:off x="4572000" y="1371600"/>
            <a:ext cx="3828960" cy="428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1E5E-1168-40B2-A8FC-FC48E2B1B3B3}" type="slidenum">
              <a:t>33</a:t>
            </a:fld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Greek God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1280" y="1628640"/>
            <a:ext cx="4392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veling Greek storytellers told stories about the many Greek gods and godde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eople believed that the gods could choose to help or hinder them in their daily lif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52680" y="5300640"/>
            <a:ext cx="1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952880" y="1295280"/>
            <a:ext cx="3981600" cy="428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2641-FE7E-4D3C-9430-B23119E22173}" type="slidenum">
              <a:t>34</a:t>
            </a:fld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Quiz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corinthian%20short" descr=""/>
          <p:cNvPicPr/>
          <p:nvPr/>
        </p:nvPicPr>
        <p:blipFill>
          <a:blip r:embed="rId2"/>
          <a:stretch/>
        </p:blipFill>
        <p:spPr>
          <a:xfrm>
            <a:off x="304920" y="1523880"/>
            <a:ext cx="2644560" cy="45259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514600" y="1981080"/>
            <a:ext cx="632448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Question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the king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the Greek god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eus, Hades, o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ei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AD62-6853-4C35-83D4-2FF0BC9D7822}" type="slidenum">
              <a:t>35</a:t>
            </a:fld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Quiz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14600" y="1981080"/>
            <a:ext cx="632448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Answer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king of th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reek gods was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Z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greece%20page%2017%20art" descr=""/>
          <p:cNvPicPr/>
          <p:nvPr/>
        </p:nvPicPr>
        <p:blipFill>
          <a:blip r:embed="rId2"/>
          <a:stretch/>
        </p:blipFill>
        <p:spPr>
          <a:xfrm>
            <a:off x="685800" y="1295280"/>
            <a:ext cx="351000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8464-1FD3-42A7-921B-9A1182A6A744}" type="slidenum">
              <a:t>36</a:t>
            </a:fld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Quiz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752480"/>
            <a:ext cx="441972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Question #2</a:t>
            </a:r>
            <a:br>
              <a:rPr sz="44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have learned that Zeus had two broth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were the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greece%20page%2017%20art" descr=""/>
          <p:cNvPicPr/>
          <p:nvPr/>
        </p:nvPicPr>
        <p:blipFill>
          <a:blip r:embed="rId2"/>
          <a:stretch/>
        </p:blipFill>
        <p:spPr>
          <a:xfrm>
            <a:off x="5181480" y="1219320"/>
            <a:ext cx="351000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9D98-7F65-49E9-965D-D78948DE7B66}" type="slidenum">
              <a:t>37</a:t>
            </a:fld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Quiz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1752480"/>
            <a:ext cx="441972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Answer #2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Had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lord of the underworld an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greece%20page%2038%20art" descr=""/>
          <p:cNvPicPr/>
          <p:nvPr/>
        </p:nvPicPr>
        <p:blipFill>
          <a:blip r:embed="rId2"/>
          <a:stretch/>
        </p:blipFill>
        <p:spPr>
          <a:xfrm>
            <a:off x="4983120" y="1600200"/>
            <a:ext cx="336888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98C8-F669-47E8-B263-0445EE1E4A03}" type="slidenum">
              <a:t>38</a:t>
            </a:fld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Quiz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1752480"/>
            <a:ext cx="44197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Answer #2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Poseid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lord of the s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greece%20page%2048a%20art" descr=""/>
          <p:cNvPicPr/>
          <p:nvPr/>
        </p:nvPicPr>
        <p:blipFill>
          <a:blip r:embed="rId2"/>
          <a:stretch/>
        </p:blipFill>
        <p:spPr>
          <a:xfrm>
            <a:off x="4495680" y="1600200"/>
            <a:ext cx="3657600" cy="428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5BDC-27E7-4A79-B7B5-1D7D308142C3}" type="slidenum">
              <a:t>39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Greek God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1280" y="1628640"/>
            <a:ext cx="4392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ncient Greeks believed in many gods and goddesses, spirits and monsters.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ncient Greeks loved to tell stories about all of them. These stories are called myth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4267080"/>
            <a:ext cx="4724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2680" y="5300640"/>
            <a:ext cx="1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105520" y="1295280"/>
            <a:ext cx="3981240" cy="428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DDA7-759A-494C-8965-ECB10E6BB4D1}" type="slidenum">
              <a:t>4</a:t>
            </a:fld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Quiz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0880" y="1981080"/>
            <a:ext cx="4496040" cy="37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Question 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ollo was the god of what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isdom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ight and mus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952880" y="1295280"/>
            <a:ext cx="373248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CB44-E7A9-444C-880E-AB5F75A21441}" type="slidenum">
              <a:t>40</a:t>
            </a:fld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Quiz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91120" y="1981080"/>
            <a:ext cx="464796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Answer 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ollo was the god of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Light and mus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09480" y="1371600"/>
            <a:ext cx="373248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3736-7C95-44E5-81E7-B03C58E69D84}" type="slidenum">
              <a:t>41</a:t>
            </a:fld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Greek God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3198960"/>
            <a:ext cx="4952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gods and godd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unt Olym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4724280" y="1366920"/>
            <a:ext cx="4038840" cy="43480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80880" y="2286000"/>
            <a:ext cx="419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Greek Relig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9738-06D7-4C26-9F0D-191EEB039162}" type="slidenum">
              <a:t>42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Greek God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1341360"/>
            <a:ext cx="4189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e’s a quick look at a few of the many Greek gods and goddess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’ll start with Zeus, the king of all the gods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greece%20page%2017%20art" descr=""/>
          <p:cNvPicPr/>
          <p:nvPr/>
        </p:nvPicPr>
        <p:blipFill>
          <a:blip r:embed="rId2"/>
          <a:stretch/>
        </p:blipFill>
        <p:spPr>
          <a:xfrm>
            <a:off x="4876920" y="914400"/>
            <a:ext cx="351000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4C7E-4889-4D73-9609-CCF0DCACF962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Zeu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1341360"/>
            <a:ext cx="464652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eus was the king of all the Greek gods. Hera was his wife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job of king was an elected position. No one tried to vote him out of office because Zeus was the most powerful god of all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greece%20page%2017%20art" descr=""/>
          <p:cNvPicPr/>
          <p:nvPr/>
        </p:nvPicPr>
        <p:blipFill>
          <a:blip r:embed="rId2"/>
          <a:stretch/>
        </p:blipFill>
        <p:spPr>
          <a:xfrm>
            <a:off x="5029200" y="533520"/>
            <a:ext cx="3841920" cy="495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9AB2-8A8F-4C78-BEEC-8B47CECCF164}" type="slidenum">
              <a:t>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Zeu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1280" y="1341360"/>
            <a:ext cx="4951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eus had two brothers, Hades and Poseid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heir father died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oys split up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ld between them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eus took the sk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eidon took the sea.   Hades took the underworl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greece%20page%2017%20art" descr=""/>
          <p:cNvPicPr/>
          <p:nvPr/>
        </p:nvPicPr>
        <p:blipFill>
          <a:blip r:embed="rId2"/>
          <a:stretch/>
        </p:blipFill>
        <p:spPr>
          <a:xfrm>
            <a:off x="5029200" y="533520"/>
            <a:ext cx="3841920" cy="495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20E6-DAD1-422A-A40B-24D02E4FA352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Zeu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1280" y="1341360"/>
            <a:ext cx="4417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eus had a very jealous wife named Her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had a whole bunch of kids. Each of his children had special magical powers of their ow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greece%20page%2017%20art" descr=""/>
          <p:cNvPicPr/>
          <p:nvPr/>
        </p:nvPicPr>
        <p:blipFill>
          <a:blip r:embed="rId2"/>
          <a:stretch/>
        </p:blipFill>
        <p:spPr>
          <a:xfrm>
            <a:off x="5029200" y="533520"/>
            <a:ext cx="3841920" cy="495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C680-E574-4A22-A093-C3829D9ADEBA}" type="slidenum">
              <a:t>8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Zeu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1280" y="1341360"/>
            <a:ext cx="4265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reeks had great fun telling stories about this magical family who ruled the heave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reeks believed their  gods could help or hinder them. It was important to keep the gods happ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greece%20page%2017%20art" descr=""/>
          <p:cNvPicPr/>
          <p:nvPr/>
        </p:nvPicPr>
        <p:blipFill>
          <a:blip r:embed="rId2"/>
          <a:stretch/>
        </p:blipFill>
        <p:spPr>
          <a:xfrm>
            <a:off x="4876920" y="914400"/>
            <a:ext cx="351000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559F-77A4-4AEC-9DD1-2B9DD776B470}" type="slidenum">
              <a:t>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10:35:48Z</dcterms:created>
  <dc:creator>pmartin</dc:creator>
  <dc:description/>
  <dc:language>en-US</dc:language>
  <cp:lastModifiedBy>Christina Trejo</cp:lastModifiedBy>
  <dcterms:modified xsi:type="dcterms:W3CDTF">2006-08-18T16:20:29Z</dcterms:modified>
  <cp:revision>14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61483346</vt:r8>
  </property>
  <property fmtid="{D5CDD505-2E9C-101B-9397-08002B2CF9AE}" pid="3" name="_AuthorEmail">
    <vt:lpwstr>PMartin@AIS-antwerp.be</vt:lpwstr>
  </property>
  <property fmtid="{D5CDD505-2E9C-101B-9397-08002B2CF9AE}" pid="4" name="_AuthorEmailDisplayName">
    <vt:lpwstr>Phillip Martin</vt:lpwstr>
  </property>
  <property fmtid="{D5CDD505-2E9C-101B-9397-08002B2CF9AE}" pid="5" name="_EmailSubject">
    <vt:lpwstr>Final finally</vt:lpwstr>
  </property>
</Properties>
</file>