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DA91-1788-4CEF-A0F3-5E3CD0E46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cles’ funeral oration can be found a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su.edu/~dee/GREECE/PERICL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eople.westminstercollege.edu/faculty/mmarkowski/212/3/pericl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rtemis.austincollege.edu/acad/hwc22/Greek/Pericles/Pericl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AD17-C6A3-410B-9A86-CDA91FA9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BFD-37CA-4688-A3F4-6AD42ECA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8E0-320F-4015-85F6-961C7C4E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ECB-0352-4778-B750-7CC3D70D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61FD-8016-4F40-A2AA-866EE261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3F5-DF5E-4438-A0AE-3E29B45C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DD0-14AB-4662-BB7D-AE198C96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01D4-45CD-4328-BEC7-7EBC86F7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545-745A-47A0-ACC3-E3D25BB3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3C08-3B40-47C0-8FE7-E6B81720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6F7-C19B-444C-9EC9-E286408B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72E2-BADA-4199-AFFC-213C1F1D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F843-84B8-409E-8053-A71CCA4F7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50760"/>
            <a:ext cx="9396360" cy="729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Roots of Democrac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228600" y="1704960"/>
            <a:ext cx="9067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year, five hundred names were pulled at random. The citizens whose names were drawn had to serve a one-year term as lawmakers for the city-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greece%20page%2033b%20art" descr=""/>
          <p:cNvPicPr/>
          <p:nvPr/>
        </p:nvPicPr>
        <p:blipFill>
          <a:blip r:embed="rId2"/>
          <a:stretch/>
        </p:blipFill>
        <p:spPr>
          <a:xfrm>
            <a:off x="1295280" y="3209760"/>
            <a:ext cx="6877080" cy="372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Roots of Democrac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1676520"/>
            <a:ext cx="5791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itizens of Athens were required to vote on any new laws. One man, one vote, majority rul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 and slaves were not citizens, and thus had no voice in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greece%20page%2023art" descr=""/>
          <p:cNvPicPr/>
          <p:nvPr/>
        </p:nvPicPr>
        <p:blipFill>
          <a:blip r:embed="rId2"/>
          <a:stretch/>
        </p:blipFill>
        <p:spPr>
          <a:xfrm flipH="1">
            <a:off x="456840" y="1752480"/>
            <a:ext cx="3048120" cy="428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Roots of Democracy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152280" y="1828800"/>
            <a:ext cx="5790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amous Greek general  Pericles gave 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uneral Oration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ublic speech honoring Athenian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died in wa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 famous speech that talks about Athenian patriotism and governm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greece%20page%2058%20art" descr=""/>
          <p:cNvPicPr/>
          <p:nvPr/>
        </p:nvPicPr>
        <p:blipFill>
          <a:blip r:embed="rId2"/>
          <a:stretch/>
        </p:blipFill>
        <p:spPr>
          <a:xfrm>
            <a:off x="4886280" y="1905120"/>
            <a:ext cx="3800520" cy="441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Roots of Democracy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52280" y="1828800"/>
            <a:ext cx="6019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2400 years ago, Pericles said: “It is true that we are called a democracy, for the administration is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s of the many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the few, with eq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ice to all alike in their private disputes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greece%20page%2058%20A%20art" descr=""/>
          <p:cNvPicPr/>
          <p:nvPr/>
        </p:nvPicPr>
        <p:blipFill>
          <a:blip r:embed="rId2"/>
          <a:stretch/>
        </p:blipFill>
        <p:spPr>
          <a:xfrm>
            <a:off x="3809880" y="1905120"/>
            <a:ext cx="5943600" cy="441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Roots of Democrac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52280" y="1676520"/>
            <a:ext cx="4724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day, Athens went to war with Sparta. The war lasted nearly 30 years. Athens l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again, after the Peloponnesian Wars, Athens was ruled by a k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greece%20page%2059%20art" descr=""/>
          <p:cNvPicPr/>
          <p:nvPr/>
        </p:nvPicPr>
        <p:blipFill>
          <a:blip r:embed="rId2"/>
          <a:stretch/>
        </p:blipFill>
        <p:spPr>
          <a:xfrm>
            <a:off x="4010040" y="1371600"/>
            <a:ext cx="5133960" cy="4610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457200" y="40273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Roots of Democrac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82880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, for about 100 years, Athens was a democrac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greece%20page%2057A%20art" descr=""/>
          <p:cNvPicPr/>
          <p:nvPr/>
        </p:nvPicPr>
        <p:blipFill>
          <a:blip r:embed="rId2"/>
          <a:stretch/>
        </p:blipFill>
        <p:spPr>
          <a:xfrm>
            <a:off x="4467240" y="2057400"/>
            <a:ext cx="4067280" cy="391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Roots of Democracy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52280" y="1749600"/>
            <a:ext cx="8762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owe ancient Athens a great debt of gratitude for their political experi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et the stage for the development of modern democrac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orm of gover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joyed by ma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ies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greece%20page%2060%20art" descr=""/>
          <p:cNvPicPr/>
          <p:nvPr/>
        </p:nvPicPr>
        <p:blipFill>
          <a:blip r:embed="rId2"/>
          <a:stretch/>
        </p:blipFill>
        <p:spPr>
          <a:xfrm>
            <a:off x="3571920" y="3886200"/>
            <a:ext cx="5419800" cy="280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orinthian%20short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264456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14600" y="1981080"/>
            <a:ext cx="63244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Pericles define democracy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 by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 by ma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corinthian%20short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2644560" cy="4525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514600" y="1981080"/>
            <a:ext cx="6324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nswer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cles defined democracy as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ule by 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1981080"/>
            <a:ext cx="632448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ancient Greek city-state of Athens, who were citize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 except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men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doric%20short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236844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oof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3025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31672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Sylfae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8520" y="3505320"/>
            <a:ext cx="8211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Roots of Democrac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3960" y="3352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1981080"/>
            <a:ext cx="63244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nswer #2</a:t>
            </a:r>
            <a:br>
              <a:rPr sz="44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ancient Greek city-state of Athens, citizens were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ree men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doric%20short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236844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1600200"/>
            <a:ext cx="601956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ere 500 men selected each year to serve one-year terms as  lawmakers?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ionic%20short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28558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1600200"/>
            <a:ext cx="57909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0 men were selected each year to serve one-year terms as  lawmakers by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andom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onic%20short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28558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reek Govern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6560" y="3124080"/>
            <a:ext cx="821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l by jury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man, one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makers selected by random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3623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thenian Democ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reek Govern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689120"/>
            <a:ext cx="2361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dark ages, exciting things began to happen in ancient Gree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greece%20page%2025A%20art" descr=""/>
          <p:cNvPicPr/>
          <p:nvPr/>
        </p:nvPicPr>
        <p:blipFill>
          <a:blip r:embed="rId2"/>
          <a:stretch/>
        </p:blipFill>
        <p:spPr>
          <a:xfrm>
            <a:off x="3124080" y="1695600"/>
            <a:ext cx="5486400" cy="478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reek Govern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600200"/>
            <a:ext cx="2361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llages banded together to form strong trading centers call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-st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greece%20page%2025B%20art%20" descr=""/>
          <p:cNvPicPr/>
          <p:nvPr/>
        </p:nvPicPr>
        <p:blipFill>
          <a:blip r:embed="rId2"/>
          <a:stretch/>
        </p:blipFill>
        <p:spPr>
          <a:xfrm>
            <a:off x="3124080" y="1695600"/>
            <a:ext cx="5486400" cy="478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reek Govern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600200"/>
            <a:ext cx="236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of the most  powerfu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-states were Sparta, Athens, and Corin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greece%20page%2025%20art" descr=""/>
          <p:cNvPicPr/>
          <p:nvPr/>
        </p:nvPicPr>
        <p:blipFill>
          <a:blip r:embed="rId2"/>
          <a:stretch/>
        </p:blipFill>
        <p:spPr>
          <a:xfrm>
            <a:off x="3124080" y="1695600"/>
            <a:ext cx="5486400" cy="478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reek Govern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81120"/>
            <a:ext cx="2361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central government in ancient Gree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city-state had its own form of gover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eece%20page%2025%20art" descr=""/>
          <p:cNvPicPr/>
          <p:nvPr/>
        </p:nvPicPr>
        <p:blipFill>
          <a:blip r:embed="rId2"/>
          <a:stretch/>
        </p:blipFill>
        <p:spPr>
          <a:xfrm>
            <a:off x="3124080" y="1695600"/>
            <a:ext cx="5486400" cy="4781520"/>
          </a:xfrm>
          <a:prstGeom prst="rect">
            <a:avLst/>
          </a:prstGeom>
          <a:ln w="0">
            <a:noFill/>
          </a:ln>
        </p:spPr>
      </p:pic>
      <p:pic>
        <p:nvPicPr>
          <p:cNvPr id="67" name="greece%20page%204%20art" descr=""/>
          <p:cNvPicPr/>
          <p:nvPr/>
        </p:nvPicPr>
        <p:blipFill>
          <a:blip r:embed="rId3"/>
          <a:stretch/>
        </p:blipFill>
        <p:spPr>
          <a:xfrm>
            <a:off x="5562720" y="2257560"/>
            <a:ext cx="3476520" cy="437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reek Govern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79532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ity-states, like Corinth, were ruled by a k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ity-states, like Sparta, were ruled by a small group of lead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greece%20page%2032%20art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4029120" cy="43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Roots of Democracy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6765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hens experimented with different types of government. They invented a new form of government called democracy, which means “power of the people” or “rule by man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greece%20page%2029A%20art" descr=""/>
          <p:cNvPicPr/>
          <p:nvPr/>
        </p:nvPicPr>
        <p:blipFill>
          <a:blip r:embed="rId2"/>
          <a:stretch/>
        </p:blipFill>
        <p:spPr>
          <a:xfrm>
            <a:off x="1447920" y="3419640"/>
            <a:ext cx="6629400" cy="351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Roots of Democrac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52280" y="1719360"/>
            <a:ext cx="5333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in Athens, and only for a short time, “rule by many” meant that all citizens had to be willing to take an active role in government. It was the law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greece%20page%2032%20art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4029120" cy="43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0:35:48Z</dcterms:created>
  <dc:creator>pmartin</dc:creator>
  <dc:description/>
  <dc:language>en-US</dc:language>
  <cp:lastModifiedBy>Christina Trejo</cp:lastModifiedBy>
  <dcterms:modified xsi:type="dcterms:W3CDTF">2006-08-08T22:03:49Z</dcterms:modified>
  <cp:revision>15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1483346</vt:r8>
  </property>
  <property fmtid="{D5CDD505-2E9C-101B-9397-08002B2CF9AE}" pid="3" name="_AuthorEmail">
    <vt:lpwstr>PMartin@AIS-antwerp.be</vt:lpwstr>
  </property>
  <property fmtid="{D5CDD505-2E9C-101B-9397-08002B2CF9AE}" pid="4" name="_AuthorEmailDisplayName">
    <vt:lpwstr>Phillip Martin</vt:lpwstr>
  </property>
  <property fmtid="{D5CDD505-2E9C-101B-9397-08002B2CF9AE}" pid="5" name="_EmailSubject">
    <vt:lpwstr>Final finally</vt:lpwstr>
  </property>
</Properties>
</file>