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D133-7C54-43AE-AC6A-A6A116362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eeded, an Audio Pronunciation Guide for the Greek gods is online he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-w.com/cgi-bin/audio.pl?sisyph03.wav=Sisyph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7FBF-D56E-45D3-90BF-0CFE5661A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ECDD-EFCC-4ABC-931F-7C6788E5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2DFC-A213-4B14-B744-16FB3152B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9416-B8B2-4B63-A023-3C5B66144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F1F8-128E-4342-850C-B44C2F33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FA60-D9AC-4042-83A3-A2B1C123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691F-FE21-4225-818B-F0F6B1A5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87D6-64A1-4A4B-B2D2-13F09E29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673B-078E-40D8-B14E-54675ABB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1F08-F621-4248-A267-C3B147F2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46ED-AE1D-41CA-9029-0A9AD92E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2726-DC75-4B64-996E-1F0B37BC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4C4E-40E7-4834-875D-D25CC7709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-50760"/>
            <a:ext cx="9396360" cy="729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Quiz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corinthian%20short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2644560" cy="4525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514600" y="1523880"/>
            <a:ext cx="632448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Question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problem was King Sisyphus trying to solve for Corinth when Zeus flew by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fresh wate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job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c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67A3-C1FB-4AA8-B794-11EA9799BA65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Quiz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corinthian%20short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2644560" cy="452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514600" y="1981080"/>
            <a:ext cx="632448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Answer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ng Sisyphus was trying to solv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blem of a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lack of fresh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0D6C-F454-4C90-A2A6-B68C54982979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Quiz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14600" y="1981080"/>
            <a:ext cx="632448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Question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id Hades take King Sisyphus to the underworld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king had behaved badl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es wanted t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Zeus told him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doric%20short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236844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64CB-36B1-43ED-BFDA-49778CF5357F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Quiz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14600" y="1981080"/>
            <a:ext cx="632448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Answer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es took King Sisyphus to the underworld because </a:t>
            </a: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Zeus told him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doric%20short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236844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1380-1F35-4FEC-BED3-4379F3EE5B50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Quiz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1981080"/>
            <a:ext cx="632448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Question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the story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 you think might be the significance of a gold coi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laced under the tongue of a dead pers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ionic%20short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285588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EFFB-0135-40D2-BC4A-9394F76F05C0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Quiz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1981080"/>
            <a:ext cx="63244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Answer #3</a:t>
            </a: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 gold coin paid for a trip across the River Styx, to the land of the dead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onic%20short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285588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40C0-B6A7-4937-A468-DBAC217E141F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Greek God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3124080"/>
            <a:ext cx="8839440" cy="23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King Sisyphus of Cori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cient Greek My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es, king of the under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of of Corinthian clever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800600" y="452520"/>
            <a:ext cx="4038480" cy="434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D5C1-E9D4-4347-9CEF-F44705E76225}" type="slidenum">
              <a:t>1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roof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30258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King Sisyphus of Corint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53960" y="33526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8E92-7B15-4FFA-817E-3E209B991665}" type="slidenum">
              <a:t>2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Greek Myth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644480"/>
            <a:ext cx="327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reek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my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 stor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one or mor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gical deit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yth is called: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King Sisyphus of Cori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876920" y="1295280"/>
            <a:ext cx="4038480" cy="43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0925-AE1E-413C-8242-FB0CF4F65179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Sisyphus of Corint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673280"/>
            <a:ext cx="4114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eople of Corinth  believed their king, King Sisyphus of Corinth,  was the cleverest king who ever liv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re always bragging about h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doric%20short" descr=""/>
          <p:cNvPicPr/>
          <p:nvPr/>
        </p:nvPicPr>
        <p:blipFill>
          <a:blip r:embed="rId2"/>
          <a:stretch/>
        </p:blipFill>
        <p:spPr>
          <a:xfrm>
            <a:off x="4800600" y="1219320"/>
            <a:ext cx="236844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corinthian%20short" descr=""/>
          <p:cNvPicPr/>
          <p:nvPr/>
        </p:nvPicPr>
        <p:blipFill>
          <a:blip r:embed="rId3"/>
          <a:stretch/>
        </p:blipFill>
        <p:spPr>
          <a:xfrm>
            <a:off x="5867280" y="1905120"/>
            <a:ext cx="26449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1C8C-6767-4049-A568-E0F21D99FC89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Sisyphus of Corint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41600"/>
            <a:ext cx="4343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day, the king was busy trying to come up with an idea to solve Corinth’s fresh water problem. He saw Zeus fly by, carrying a lovely river spirit in his arm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Zeus up to now?” he asked himsel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greece%20page%2064a%20art" descr=""/>
          <p:cNvPicPr/>
          <p:nvPr/>
        </p:nvPicPr>
        <p:blipFill>
          <a:blip r:embed="rId2"/>
          <a:stretch/>
        </p:blipFill>
        <p:spPr>
          <a:xfrm>
            <a:off x="4800600" y="1219320"/>
            <a:ext cx="434340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5175-C97A-4DCD-9D0B-99D60A0F7CC0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Sisyphus of Corint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676520"/>
            <a:ext cx="7467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xt, the river-god Asopus flew by. “Have you seen my daughter?” he bellowed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’ll give my city a source of fresh water, I’ll tell you what I saw,” King Sisyphus shouted back. Immediately, a crystal clear stream of fresh water bubbled up.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us took her that way,” the king poi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55CD-BD75-4FE0-B4EA-D25D10318149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Sisyphus of Corint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1581120"/>
            <a:ext cx="5410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us was furious when he heard about it. He told his brother Hades to take Sisyphus to the underworl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y tell you I am dead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put a gold coin unde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tongue,” King Sisyphus told his wife. The king arrived in the underworld as a poor begg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greece%20page%2038%20art" descr=""/>
          <p:cNvPicPr/>
          <p:nvPr/>
        </p:nvPicPr>
        <p:blipFill>
          <a:blip r:embed="rId2"/>
          <a:stretch/>
        </p:blipFill>
        <p:spPr>
          <a:xfrm>
            <a:off x="5724360" y="1295280"/>
            <a:ext cx="3191040" cy="428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4F9E-4E2A-4B27-ACD5-D2BC540808CA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Sisyphus of Corint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76520"/>
            <a:ext cx="4648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is your gold coin?” Hades demanded in sh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can you pay for a trip across the River Styx and arrive in the underworld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king hung his hea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wife was too cheap to pay for the passag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greece%20page%2064a%20art" descr=""/>
          <p:cNvPicPr/>
          <p:nvPr/>
        </p:nvPicPr>
        <p:blipFill>
          <a:blip r:embed="rId2"/>
          <a:stretch/>
        </p:blipFill>
        <p:spPr>
          <a:xfrm>
            <a:off x="4724280" y="1523880"/>
            <a:ext cx="434340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3F73-804B-496B-95A2-746C0B24DD75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Sisyphus of Corint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447920"/>
            <a:ext cx="4419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es’s mouth fell open. “You go right back there and teach that women some mann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king and his beloved wife laughed when he told her about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lived happily ever af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greece%20page%2038%20art" descr=""/>
          <p:cNvPicPr/>
          <p:nvPr/>
        </p:nvPicPr>
        <p:blipFill>
          <a:blip r:embed="rId2"/>
          <a:stretch/>
        </p:blipFill>
        <p:spPr>
          <a:xfrm>
            <a:off x="5410080" y="1676520"/>
            <a:ext cx="319104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F13D-648C-4F42-A2E7-F0597F9C11CD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0:35:48Z</dcterms:created>
  <dc:creator>pmartin</dc:creator>
  <dc:description/>
  <dc:language>en-US</dc:language>
  <cp:lastModifiedBy>Bill Williams</cp:lastModifiedBy>
  <dcterms:modified xsi:type="dcterms:W3CDTF">2006-08-04T22:01:58Z</dcterms:modified>
  <cp:revision>1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61483346</vt:r8>
  </property>
  <property fmtid="{D5CDD505-2E9C-101B-9397-08002B2CF9AE}" pid="3" name="_AuthorEmail">
    <vt:lpwstr>PMartin@AIS-antwerp.be</vt:lpwstr>
  </property>
  <property fmtid="{D5CDD505-2E9C-101B-9397-08002B2CF9AE}" pid="4" name="_AuthorEmailDisplayName">
    <vt:lpwstr>Phillip Martin</vt:lpwstr>
  </property>
  <property fmtid="{D5CDD505-2E9C-101B-9397-08002B2CF9AE}" pid="5" name="_EmailSubject">
    <vt:lpwstr>Final finally</vt:lpwstr>
  </property>
</Properties>
</file>