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7C0-8EA7-4BF1-9D5E-B90380D7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AB8-D1D3-4945-B398-4A571BD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44A-D770-431B-BF32-7DD7065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3C2-691B-40EB-ADA0-AB8BCF56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D36-9230-4435-A660-1E76D4F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C52-8C62-4109-8F59-F991BE6C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38-CEA3-44CF-85E1-38FAC95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2B4-B7E4-421C-8A24-A81051E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66D-ADDF-4584-A762-2E0E07A1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E75-F8D5-41BA-8467-1657546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6C4-1432-4435-A3E4-C5E1BE3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08C-7DA4-494E-94D7-28088FF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955-9F6C-4678-93C9-3A3EC5A4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The Epic of Gilgames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07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More Adventur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1680" y="1581120"/>
            <a:ext cx="51084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at’s the end of this one little piece of the many adventures of King Gilgam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like to read more about King Gilgamesh, you can. His adventures were written down a very long time ago in a book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Epic of Gilgam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87800" y="1676520"/>
            <a:ext cx="407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456840"/>
            <a:ext cx="868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The Epic of Gilgames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1581120"/>
            <a:ext cx="63277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pic of Gilgame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n ancient story, written thousands of years ago. It is the story of King Gilgamesh. King Gilgamesh might have been an actual king, but no one knows for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 says that King Gilgamesh had many special powers. In fact, you might say that Gilgamesh w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superher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720" y="1905120"/>
            <a:ext cx="2550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080" y="456840"/>
            <a:ext cx="860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The Epic of Gilgames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11800" y="1981080"/>
            <a:ext cx="255132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1680" y="1581120"/>
            <a:ext cx="617544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legend, Gilgamesh was part god and part human. King Gilgamesh enjoyed many adventu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re is one pie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pic of Gilgame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y loosely retold. As the story go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ce upon a time there lived a famous king of ancient Uruk named Gilgames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</a:t>
            </a:r>
            <a:r>
              <a:rPr b="1" lang="en-US" sz="6600" spc="-1" strike="noStrike">
                <a:solidFill>
                  <a:srgbClr val="ffffff"/>
                </a:solidFill>
                <a:latin typeface="Sylfaen"/>
                <a:ea typeface="Times New Roman"/>
              </a:rPr>
              <a:t>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680" y="1581120"/>
            <a:ext cx="602280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ilgamesh did not care about his people. He only cared about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t no one could do anything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t only was he a k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 was also strong enoug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ick up mountains! He could dive to the deepest point in the ocean and back again in one brea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330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851120"/>
            <a:ext cx="609588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t he could not f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e could not live for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was that “could not live forever” part that really got his camel. After all, wasn’t he a god? Or, at least two-thirds of a g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160" y="2133720"/>
            <a:ext cx="238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851120"/>
            <a:ext cx="609588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ybe it was that, but for whatever reason, Gilgamesh was nearly always cra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very bor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 had run out of cities to conquer. All the monsters ran away the minute they heard he was co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 had nothing to do except scare his subjects silly with his bad temper and his tantru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160" y="2133720"/>
            <a:ext cx="238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1680" y="1581120"/>
            <a:ext cx="5045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ds looked down and decided that Gilgamesh needed a challenge. They created a really wild man who was stronger and faster than Gilgamesh, and named him Enki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ds sent Enkidu down to earth to cut Gilgamesh down to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320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1680" y="1581120"/>
            <a:ext cx="853740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kidu went roaring into the city of Uruk, where Gilgamesh had his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ilgamesh perked up right away. The two god-m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ared and wrestled and bit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ratched but neither could be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started laughing, and bec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very best of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3276720"/>
            <a:ext cx="307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ilgamesh &amp; Enkid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1680" y="1581120"/>
            <a:ext cx="49561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there was nothing much to do around town, the citizens of Uruk were most relieved w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eard that the two god-m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gone off to the forbidden forest, looking for monsters to ba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agreed that this was very good news ind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66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37:00Z</dcterms:created>
  <dc:creator>Lin Donn</dc:creator>
  <dc:description/>
  <dc:language>en-US</dc:language>
  <cp:lastModifiedBy>Christina Trejo</cp:lastModifiedBy>
  <dcterms:modified xsi:type="dcterms:W3CDTF">2008-01-18T01:35:14Z</dcterms:modified>
  <cp:revision>25</cp:revision>
  <dc:subject/>
  <dc:title>The First Humans</dc:title>
</cp:coreProperties>
</file>