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A5CC-B8A9-4578-AA62-9CF2C6EB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language invented by the ancient Sumer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orded just about everything. They made lists of things, people, sales, and purchases. They also wrote down a story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Epic of Gilgame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s used in cuneiform to represent letters, phrases, and meanings changed over the years and varied by region. Therefore, symbols might look similar but mean something entirely differ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4C2-A6F3-4C1A-9405-EDE4D4B2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E8A-DFE8-4EEA-A866-D56379C9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D9D-E1C0-4F76-8039-EB4904EC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674-FB61-41E5-B153-DC492C40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84C-060A-49F2-889A-C4297C30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654-153F-4852-9BFF-FC123B2A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888-01D3-461B-A2A5-6789F7D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77B-BE38-48DF-A330-F817EAB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9BE-157B-4F97-A152-3F42247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F1C-28A1-484C-9870-805D2F2D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357-E183-4D0E-BAF7-3C9FF457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CFC-1813-468F-B33E-0B35951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D828-9E37-4F1C-9140-F463E6F4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2578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4120" y="25146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The First Written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87692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cient Sumerians developed a written language called “cuneiform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Cune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251000"/>
            <a:ext cx="617220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beginning, the ancient Sumerians used pictographs, pictures of things that served as words. Pictographs worked, but they were rather cumbersome. Soon, the clever ancient Sumerians began to use wedge-shaped symbols for ideas and objects, instead of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day, we call this written language of wedge-shaped symbo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ne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20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Cune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1680" y="1251000"/>
            <a:ext cx="777240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 know a great deal about the ancient Sumerian civilization from the written records they left behind in stone and c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ept excellent record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isted their household good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activities, sales, and purchas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even kept a list of their kin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was updated from tim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, as new kings c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30600" y="2514600"/>
            <a:ext cx="453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Cune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251000"/>
            <a:ext cx="57913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e of the best things the ancient Sumerians wrote down was a great story ca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pic of Gilgames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epic is perhaps the oldest recorded story in the world. It tells about the adventures of a king of Uruk, one of the city-states in ancient Sumer. A King Gilgamesh may actually have existed. His name is on the list of Sumerian k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9440" y="1905120"/>
            <a:ext cx="2550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Cune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680" y="1251000"/>
            <a:ext cx="7711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neiform became the written language from as early as 5000 BCE. As the civilization of Sumer started to decline, other civilizations continued to use cune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to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erians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 great de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 anc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opotami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ization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lon and Assy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57150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Cune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1251000"/>
            <a:ext cx="518184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hough cuneiform was used for many thousands of years, and many things written in cuneiform have been discovered, cuneiform is still not easy for scientists to rea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because the shape of cuneiform letters, as well as the meanings of various cuneiform symbols, changed over time and varied by reg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Cune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680" y="1251000"/>
            <a:ext cx="60991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rchaeologists find ancient cuneiform script, they are always excited about it. However, they need to translate it to discover if they have found a household list of repaired items, or a new poem or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much yet to be dis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these ancient people as archaeologists continue to translate the ancient written language of cune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305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Questions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1680" y="1251000"/>
            <a:ext cx="548964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cuneifor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did the ancient Sumerians write d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y is it difficult for today’s scientists to read cuneifor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02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37:00Z</dcterms:created>
  <dc:creator>Lin Donn</dc:creator>
  <dc:description/>
  <dc:language>en-US</dc:language>
  <cp:lastModifiedBy>Christina Trejo</cp:lastModifiedBy>
  <dcterms:modified xsi:type="dcterms:W3CDTF">2008-01-18T01:13:47Z</dcterms:modified>
  <cp:revision>19</cp:revision>
  <dc:subject/>
  <dc:title>The First Humans</dc:title>
</cp:coreProperties>
</file>