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9D1BEE-CDCF-4592-8E6A-D1D730E47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s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tif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203-A526-4835-896F-0005F059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B35-CD94-4FFA-B479-49215C58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476-4A75-405F-98EE-8E3614F7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DC6-B638-477C-B6A1-D4D49AC0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869-90D0-4397-A1FE-8FCF5F4F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976-E094-4FAF-82B5-5955A30C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755-1BEC-4560-9EDE-B566B447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2E9-5A17-433D-AF01-B7E6C808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191-DC43-4094-A6B2-EED551D2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69B-C550-448B-88B8-F0D26228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285-D435-4039-A915-601AE490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CAB-698D-483A-94F5-DC79A2E1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DE14-191B-40F1-A930-3B9803E30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What is </a:t>
            </a:r>
            <a:r>
              <a:rPr b="1" lang="en-US" sz="6600" spc="-1" strike="noStrike">
                <a:solidFill>
                  <a:srgbClr val="cc3300"/>
                </a:solidFill>
                <a:latin typeface="Sylfaen"/>
              </a:rPr>
              <a:t>Archaeology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81080" y="762120"/>
            <a:ext cx="51865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Back in the La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1680" y="1251000"/>
            <a:ext cx="8001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ce objects are labeled and removed from a site, they are taken to a lab, relabeled, and entered into a database. Archaeologists use this information to put together pieces of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a great deal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, train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ce, and attention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to work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chaeolog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971800" y="3095640"/>
            <a:ext cx="6172200" cy="3762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9960" y="499284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What is 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280" y="236232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1680" y="12510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job of an archaeologist is a great deal like the job of a detective. Here are some puzzles for you to so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81560" y="2438280"/>
            <a:ext cx="378612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1680" y="2819520"/>
            <a:ext cx="64008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planting your garden, you found a three-foot-long bon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d you find a fossil or 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tifa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exploring in the woods near your house, you found an old arrowhead. Did you find a fossil or an artifa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Fossils &amp; Artifac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1680" y="1251000"/>
            <a:ext cx="724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archaeologist is someone who tries to figure out what life was like in the ancient past by looking at the remains of ancient peo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fossils and their artifacts. An archaeologi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now the difference between an artifact and a fossi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318360" y="1486080"/>
            <a:ext cx="2673360" cy="285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4267080"/>
            <a:ext cx="883908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ssi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e remains of living things (plants, animals, people), not of things that were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tifa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e remains of things that were made, not the remains of living th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What Is a Sit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1251000"/>
            <a:ext cx="51055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place archaeologists wish to expl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 a site, archaeologists literally dig into the earth in search of the remains of ancient civilizations. This is why they call the site at which they are work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dig.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392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Finding a Si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2860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archaeologists find sites to explor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92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Finding a Si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1680" y="1251000"/>
            <a:ext cx="88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think about what people need to stay aliv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173480"/>
            <a:ext cx="451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is in mind, archaeologists look f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s of civilizations along the banks of rivers and strea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08584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ose thing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access to clean drink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tected place to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trade ro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Finding a Si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1680" y="1251000"/>
            <a:ext cx="861372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y check out reports of what has already been discov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Artifacts have been found by farmers and construction companies while doing their job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heck the land from the ai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ing for large depressions that could b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ins of an ancient living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use scientific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ke rada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ar to look for ru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86400" y="3886200"/>
            <a:ext cx="36576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Permission to Di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680" y="1251000"/>
            <a:ext cx="861372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 archaeologist must receive permission to explore a site. Sometimes the owner of the land grants permission, though sometimes the government of a country must issue perm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ce permission is receive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chaeologists work in teams with other archaeologists to explore the area. They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ok for evidence that people once liv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vidence includes fossils and artifa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16880" y="2590920"/>
            <a:ext cx="235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Grids &amp; Label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251000"/>
            <a:ext cx="801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i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efore they begin digging, archaeologists set up a grid on the ground using rope and strin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quare in the grid must be carefully search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5562720" cy="3390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10080" y="318276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e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ecord must be kept of anything found, including what was found next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08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ylfaen"/>
              </a:rPr>
              <a:t>Tools of the Tra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1680" y="1251000"/>
            <a:ext cx="678492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ools they use are sometimes very simple. Tools  include trowels, brushes, spoons, dental picks, sieves, saws, dustpans, and wheelb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y search each site ve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efully. Digging at a site is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low and careful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3965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2:37:00Z</dcterms:created>
  <dc:creator>Lin Donn</dc:creator>
  <dc:description/>
  <dc:language>en-US</dc:language>
  <cp:lastModifiedBy>Christina Trejo</cp:lastModifiedBy>
  <dcterms:modified xsi:type="dcterms:W3CDTF">2008-01-18T00:33:22Z</dcterms:modified>
  <cp:revision>26</cp:revision>
  <dc:subject/>
  <dc:title>The First Humans</dc:title>
</cp:coreProperties>
</file>