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15.png" ContentType="image/png"/>
  <Override PartName="/ppt/media/image14.png" ContentType="image/png"/>
  <Override PartName="/ppt/media/image28.png" ContentType="image/png"/>
  <Override PartName="/ppt/media/image38.jpeg" ContentType="image/jpeg"/>
  <Override PartName="/ppt/media/image5.png" ContentType="image/png"/>
  <Override PartName="/ppt/media/image43.jpeg" ContentType="image/jpeg"/>
  <Override PartName="/ppt/media/image10.png" ContentType="image/png"/>
  <Override PartName="/ppt/media/image1.jpeg" ContentType="image/jpeg"/>
  <Override PartName="/ppt/media/image35.jpeg" ContentType="image/jpeg"/>
  <Override PartName="/ppt/media/image47.png" ContentType="image/png"/>
  <Override PartName="/ppt/media/image25.png" ContentType="image/png"/>
  <Override PartName="/ppt/media/image42.jpeg" ContentType="image/jpeg"/>
  <Override PartName="/ppt/media/image37.jpeg" ContentType="image/jpeg"/>
  <Override PartName="/ppt/media/image50.jpeg" ContentType="image/jpeg"/>
  <Override PartName="/ppt/media/image13.png" ContentType="image/png"/>
  <Override PartName="/ppt/media/image40.jpeg" ContentType="image/jpeg"/>
  <Override PartName="/ppt/media/image44.jpeg" ContentType="image/jpeg"/>
  <Override PartName="/ppt/media/image9.png" ContentType="image/png"/>
  <Override PartName="/ppt/media/image36.jpeg" ContentType="image/jpeg"/>
  <Override PartName="/ppt/media/image41.jpeg" ContentType="image/jpeg"/>
  <Override PartName="/ppt/media/image45.jpeg" ContentType="image/jpeg"/>
  <Override PartName="/ppt/media/image46.jpeg" ContentType="image/jpeg"/>
  <Override PartName="/ppt/media/image31.jpeg" ContentType="image/jpeg"/>
  <Override PartName="/ppt/media/image2.png" ContentType="image/png"/>
  <Override PartName="/ppt/media/image48.jpeg" ContentType="image/jpeg"/>
  <Override PartName="/ppt/media/image51.png" ContentType="image/png"/>
  <Override PartName="/ppt/media/image30.jpeg" ContentType="image/jpeg"/>
  <Override PartName="/ppt/media/image52.jpeg" ContentType="image/jpeg"/>
  <Override PartName="/ppt/media/image39.jpeg" ContentType="image/jpeg"/>
  <Override PartName="/ppt/media/image8.png" ContentType="image/png"/>
  <Override PartName="/ppt/media/image12.png" ContentType="image/png"/>
  <Override PartName="/ppt/media/image7.png" ContentType="image/png"/>
  <Override PartName="/ppt/media/image11.png" ContentType="image/png"/>
  <Override PartName="/ppt/media/image29.wmf" ContentType="image/x-wmf"/>
  <Override PartName="/ppt/media/image6.png" ContentType="image/png"/>
  <Override PartName="/ppt/media/image34.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Click to move the slide</a:t>
            </a:r>
            <a:endParaRPr b="0" lang="en-US" sz="4400" spc="-1" strike="noStrike">
              <a:solidFill>
                <a:srgbClr val="990000"/>
              </a:solidFill>
              <a:latin typeface="Arial"/>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24E898-D92E-45B0-A4FB-4A66AC1CE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d why are maps created? How are they used? How do we create and store maps in our minds, and how do we use these “mental maps”? How are people and places organized on the Earth’s surface? How are people’s decisions affected by their locations and the locations of things in their environments (such as buildings, natural resources, and transportation ro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of the questions we’ll consider in this presentation. Throughout the show, try to think about how you use maps in your own life and how they might help you in the future. Also think about how your decision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nd the decisions of other people</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re influenced by the geographical distribution of people and place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matic maps show how themes, trends, or patterns differ from place to place on a map. The census map in the last slide is an example of a thematic map. This slide shows another thematic map, which focuses on patterns of land use in Canada. The map legend might be hard for you to read, but each of the colors on the map represent the following (beginning in the upper left and going across the row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rming (dark gree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ry (green) </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ing (red)</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zing (light orange)</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madic herding (light gree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ing, gathering (purple)</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used land (ta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is map show you about Canada’s land use patterns? How is most of Canada’s land used? Where are Canada’s manufacturing centers? Where are most of Canada’s farms located?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you see a thematic map that shows precipitation patterns in Australia. The legend reads as follows, beginning in the upper left and going across the row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80 inches (200 cm) - darkest blu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80 inches (100</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200 c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40 inches (50</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100 c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20 inches (25</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50 c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10 inches (under 25 c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is map tell you about precipitation in Australia? If you wanted to visit Australia’s rainforest, where would you go? If you wanted to spend some time in Australia’s desert, where would you head? Does Australia’s largest city, Sydney, get more or less rain on average than the rest of the country as a who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s can provide clues about a lot of different th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magine that you’re planning a trip to Europe. Look at the map on this slide and the ones on the next three slides. Which maps would be the most helpful in answering each of these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ypes of clothing should I b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s there anywhere I can go to escape the crowds and be alone in the country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ight I get a chance to do some hiking in the fores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ical (“topo”) maps show detailed features of land and water areas. They’re very helpful in navigation and are also great to take with you on wilderness h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shows Lake Hebgen, which lies in southwestern Montana near the Idaho and Wyoming borders. Imagine that you’ve decided to take a backpacking trip for several days in the wilderness around this lake. How could this map help you? If you arrived at a particular road, river, or point on the lake, how could the map assist you in determining exactly where you we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it’s helpful to use tools along with maps. Probably the most frequently-used tool is the compass, which can help you determine the direction you’re going. A compass can also help you locate features on a map and compare them to features you see in the landsca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rt wilderness hikers carry compasses </a:t>
            </a:r>
            <a:r>
              <a:rPr b="0" i="1" lang="en-US" sz="1200" spc="-1" strike="noStrike">
                <a:solidFill>
                  <a:srgbClr val="000000"/>
                </a:solidFill>
                <a:latin typeface="Times New Roman"/>
              </a:rPr>
              <a:t>and</a:t>
            </a:r>
            <a:r>
              <a:rPr b="0" lang="en-US" sz="1200" spc="-1" strike="noStrike">
                <a:solidFill>
                  <a:srgbClr val="000000"/>
                </a:solidFill>
                <a:latin typeface="Times New Roman"/>
              </a:rPr>
              <a:t> topo maps. They try to match up features on the landscape with features on the map. By using specific compass techniques, they can figure out how to get from their current location to their desired location, or they can figure out where they are if they’re los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0948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ve seen, maps can help you make decisions. This 2000 census map shows northeastern Illinois, including the Chicago area. The big body of water is Lake Michi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shows the percentage of persons who list themselves as Asian, with no other ethnicity stated. The darker the green, the higher the percentage of people in this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ere planning to open a supermarket in northeastern Illinois that specializes in imports from Asian countries, how could this map help you? Where would you want to focus your efforts? Where would you be least likely to locate your store?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magine that you want to open a national chain of Asian supermarkets. Where would you focus your efforts? If you had to choose four regions of the country in which to open your first stores, which areas would you choose?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ography Standard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first consider how maps are cre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s can be drawn to very different scales. For example, this map shows the entire world, with one inch representing 2000 m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out your years in school, you will see plenty of historical maps like this one and the ones on the next two slides. What purposes do you think historical maps serve? Do you think they’re helpful when you’re studying a historical topic such as ancient Egypt? Why or why no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dern times, maps have often been used to show the patterns of disease outbreaks and other important medical phenomena. One of the first times this was done occurred in the mid-19th century when the city of London experienced an outbreak of cholera, an often fatal water-borne disease. Dr. John Snow meticulously mapped the locations of cholera deaths and determined that the people who had died all lived near and had drunk water from specific wells. He therefore deduced not only that cholera was probably carried through water but that these wells were contaminated with the diseas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imple map of the continental United States. How might the map be used in the event of a public health scare, such as a bioterrorism attack? How might mapping the locations of a disease outbreak help the government and the medical profession assist peopl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ography Standard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al maps are ones that people have in their minds about how and where places are located and organized. For example, you probably have one mental map of the route you take from home to school, another of your favorite shopping mall or park, and another of your own house or apar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eople often have different mental maps of the same places, depending on their experiences in those places and their understanding of how those places are organized. For example, your younger siblings might draw a map of your town very differently than you would. Their mental maps of the town might emphasize the elementary school and the places where kids their age like to play, while your mental map would highlight your own school and the places you like to go.</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s draw blueprints like this one when they’re planning the design of houses and other build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couple minutes to sketch a “blueprint” of your school. Try to include as many places as you can think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your drawing with the ones your classmates have done. In what ways are they similar? Are there any noticeable differences? Is there any evidence shown that personal experiences have affected people’s mental maps of the school? For example, do students with special interests (such as music or sports) seem to emphasize the parts of the school where those activities occur?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e pictures on the next few slides and think about where they might have been taken (state, country,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teacher: As an option, you may want to have students sketch quick maps showing where they think these places are located. Next, have them compare their mental maps with each other. Discuss the following: Are these mental maps all about the same, or are there significant differences? Why might this be the ca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in this map of the tiny state of Vermont one inch equals 25 m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few minutes to sketch maps of the places named on this and the next two slides. Include as many features as you can think of, and try to place these features in accurate locations on the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your mental maps to real ones of these places. How much did you miss? How many things did you map accurately? Which map of the three appears to be the most accurate? Why?</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tates would you travel through to get from Atlanta to Seattle? Can you draw a mental map of the United States that shows your route between these two citie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ography Standar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ne a picture of the United States taken from a satellite at night. Some parts of the country would be brightly lit, while others would be dark. The areas of bright light would correspond to heavily populated areas (urban areas); the dark parts would show rural areas. Perhaps you’ve already seen a map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this map look like? Where would the population centers appear?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have centers, suburbs, and “exurbs,” which are towns located on the farthest outskirts of the cities. This partial map shows Los Angeles and some of its subu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merican suburbs have existed since the 19th century, they really began to expand after World War II, when many young families wanted their own houses and yards outside of crowded cities. In the traditional city-suburb relationship, the city functioned as the center and business hub while the suburbs acted as “bedroom communities” from which workers commuted into the cities for their jobs. During the last part of the 20th century, however, many businesses relocated to the suburbs, and increasing numbers of people both lived and worked in the suburbs. This phenomenon created a “reverse rush hour” in many metropolitan areas with highways congested both to and from the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etropolitan areas, such as Los Angeles, incorporated this late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century suburban model into the early stages of their development, with significant suburban business hubs spread out over a large area. This pattern of development resulted from planning that emphasized automobile transportation rather than the mass transit-based pattern prevalent in older metropolitan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city-suburb relationship in the metropolitan area closest to where you live? Do many people work in the suburbs? Are there some “mega-burbs” that seem like suburbs but actually function as cities on their own? If you live in the suburbs, how often do you go into the city? If you live in the city, how often do you go to the suburb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ellite maps can help us trace the progress of urban expansion and suburbanization. This slide shows a USGS (United States Geological Survey) satellite image of Las Vegas in 1972. In a satellite image, the color red actually represents green areas of vegetation. You can see where people have planted grass and other vegetation, including golf courses, in the sparse desert landscape. The surrounding desert area appears green and gray.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difference in this satellite image of Las Vegas taken in 1992. The red area is much larger, indicating more lawns and golf courses. Satellite images thus reveal the fact that Las Vegas represents one of the country’s fastest-growing metropolitan area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ime passes, cities and regional metropolitan areas change their transportation routes and methods, building additional freeways, toll roads, and public transportation systems such as subways and light r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think these changes affect people’s lives? How do they affect trade and business within and between metropolitan areas? What new opportunities arise when transportation routes change or expand? How does the availability of various types of transportation and transportation routes affect people’s decisions about where to live, work, play, and shop? How do these decisions affect a region’s econom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our slides show some of the different types of places where people live: city apartment buildings and townhouses, suburban houses, and country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each of these slides and think about why people would choose to live in each place. What factors might make people decide to live in one place instead of another? Think about economic considerations (money) and lifestyle preferences such as convenience, familiarity, being near family and friends, being near work, and being able to do a certain type of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ink about the types of housing available in your area. Do most people live where they do because they have to or because they’ve chosen to? If you could live in a particular type of place, where would it be and wh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 scale is stated as a ratio, as you can see in each of the maps on this slide. The first number in the ratio (1) stands for one unit of measurement on the map (generally one inch or one centimeter), and the second number in the ratio shows how many of the same unit (inches or centimeters) the 1 represents on the ground. So, the ratio in the first map states this: 1 inch on the map equals 24,000 inches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e second map’s ratio state? What is the difference between these two maps? They both show Mt. Rainier in Washington State, but they’re obviously different in an important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map with the smallest number (1:24,000) is the map that provides more of a close-up of Mt. Rain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map would be the most helpful if you were climbing Mt. Rainier? Why? Which would be the most helpful if you were trying to decide which area in Mt. Rainier National Park to visit on a backpacking tr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t important to figure out a map’s scale before you use it? Hint: Imagine that you’re trying to use a road map to get from one town to another. Why would it help to know the scal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in this presentation, you used a map to help you decide where to open an Asian supermarket or supermarket chain. Now, imagine that you’re planning to open a furniture store. You already know that it might be helpful to consult a map to help you decide where to locate your store. What other factors would you need to find out in order to make sure you locate your store in just the right place? What would you need to know about the city or town, the places people spend their time, the methods of transportation people use, and the other businesses located in the area? Can you think of anything else you’d need to take into accoun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some advantages and disadvantages of locating your furniture store in a mall? In general, what do you think are the pros and cons of locating stores in a mall?</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some advantages and disadvantages of locating your furniture store in the downtown area of either a large city or a smaller town? In general, what are the pros and cons of locating stores downtown? Does it depend on the city?</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ever seen two or more stores that sell virtually the same products located right next to, across the street from, or very close to one another? If so, did you wonder why a store owner would choose to locate his or her business so close to a competi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actice is quite common, especially among suburban “big box” hardware/home supply stores and grocery stores. These companies often locate new stores next to competitors’ stores because market research they’ve conducted tells them that an area is busy enough to support two very similar stores. People also tend to choose where to shop based not only on what’s in the store but on how conveniently it’s located. For example, if someone has to make a left turn into a parking lot to shop in one store but a right turn to shop in another store, they’re likely to choose the latter store (unless they live in England or another country where people drive on the left!). The store that requires that person to make a left turn will stay in business because people coming from the other direction will choose it, since it only requires them to make a right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if a suburban property is deemed highly valuable, no store will want to “surrender” the opportunity to use part of that territory. If one company decided not to locate a store there, it would essentially be saying to the other store “you win.” No company wants to make that statement to a competitor.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terns of trade between countries are complex and depend on numerous factors, including geography, politics, and economics. Think about this complexity and the relationships between different places as you view the examples on the next five slid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find simple wooden chopsticks like these in most Japanese and Chinese restaurants in the United States. Not surprisingly, they’re also widely used in Japan and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 imports more tropical hardwood than any other country in the world, and it also imports a good deal of wood from temperate rainforests in the United States, such as the one shown in this slide. Much of this wood gets used to make disposable chopsticks like the ones you saw in the las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one show two ways to represent the world. What are the advantages and disadvantages of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 imports even more wood from Southeast Asia; it typically comes from rainforests that look the one in this slide. These rainforests are located mainly in Indonesia and Malaysia, as you’ll see i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outes do the raw materials for the chopstick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nd the chopsticks themselve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a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ight these trade activities affect each of the places involved? </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rade products, people also move from place to place arou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nts from China have set up thriving neighborhoods (Chinatowns) in many large American cities, such as San Francisco and New Y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he greatest numbers of immigrants to the United States come from Latin America and Asia. How far do they have to travel? Why do you think they come?</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 on the things you’ve learned in this presentation by discussing these ques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ways can maps help you in your daily life? In what ways might they be helpful to the following peopl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peop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ia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worke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epreneu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reasons why different people might have different mental maps of the same place? How different are your mental maps from those of your classmates, parents, and other residents of your commun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would you rather live: in the city, the suburbs, or a rural area? Why? What factors make you favor one type of place over another? How many of these factors have to do with location (i.e., where businesses are located)? How many of these factors have to do with convenie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activities in one area affect activities in another? Think of the example of the wood trade that you just saw in the last few slides. Next, try to come up with other examples of how trade can impact diverse parts of the globe. Can you think of other types of interactions in which what happens in one location affects what happens in another location, even though they’re very far away from each oth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advantages of using a globe to find information about the world? What are the advantages of using a map? What are the drawbacks of each? Which do you use most often?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es show the true shape of the earth without the distortion that is inevitable on maps; however, you wouldn’t want to carry a globe around with you on a trip! Maps are much more portable, and their scale can be changed to provide detail about specific places. Globes, on the other hand, always show the entire planet and don’t let you focus on specific area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s can be drawn in many different ways. Professional mapmakers (known as “cartographers”) use special grid systems to design their maps. Many different systems, called projections, have been developed, and each one shows the earth in a slightly differen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map on this slide was drawn using the commonly-used Mercator projection. Notice how the grid appears in straight horizontal and vertic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notice about the size and shape of the continents on this map? Find Greenland. What does this land mass look like here? Is it really this huge in comparison to the other land masses and continents? To find out, compare Greenland on the Mercator map to Greenland on a glo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Europe and Africa. How do they compare in size? Do you think Africa is really this small compared to Europe? Use a globe again to compare these continents on a Mercator map to their real dimen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rcator projection, although very popular, distorts many of the earth’s land masse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he farther from the equator, the more they get distorted. Thus, Greenland and Europe all appear bigger than they really are (so do Canada and Russi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Robinson projection. In what ways is it different from the Mercator proj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first notice that the Robinson projection uses curved rather than straight grid lines. You will then notice that Greenland and Europe appear smaller in relation to the other continents than they did on the Mercator m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binson projection provides a more realistic representation of the earth, and it also happens to look more like a globe than the Mercator projection do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625760" y="457200"/>
            <a:ext cx="4978080" cy="373392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often use maps to visually represent data. This map uses data from the 2000 census to display the percentage of people over the age of 65 in each state. Although this information can be shown in charts and tables, representing it on a map can sometimes make certain data stand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on the left indicates what the colors on the map mean. The lightest shade of yellow represents states where 5.7</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9.9 percent of the population is over 65 years old, and the darkest shade of green represents states where 17.6 percent of the population is over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is map tell you about the distribution of people over 65 throughout the country? Which states have the highest percentages of senior citizens? Which have the lowest? What does this map tell you about the percentage of </a:t>
            </a:r>
            <a:r>
              <a:rPr b="0" i="1" lang="en-US" sz="1200" spc="-1" strike="noStrike">
                <a:solidFill>
                  <a:srgbClr val="000000"/>
                </a:solidFill>
                <a:latin typeface="Times New Roman"/>
              </a:rPr>
              <a:t>younger</a:t>
            </a:r>
            <a:r>
              <a:rPr b="0" lang="en-US" sz="1200" spc="-1" strike="noStrike">
                <a:solidFill>
                  <a:srgbClr val="000000"/>
                </a:solidFill>
                <a:latin typeface="Times New Roman"/>
              </a:rPr>
              <a:t> people in these stat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Click to edit the title text format</a:t>
            </a:r>
            <a:endParaRPr b="0" lang="en-US" sz="4400" spc="-1" strike="noStrike">
              <a:solidFill>
                <a:srgbClr val="99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Click to edit the outline text format</a:t>
            </a:r>
            <a:endParaRPr b="0" lang="en-US" sz="3200" spc="-1" strike="noStrike">
              <a:solidFill>
                <a:srgbClr val="800080"/>
              </a:solidFill>
              <a:latin typeface="Times New Roman"/>
            </a:endParaRPr>
          </a:p>
          <a:p>
            <a:pPr lvl="1" marL="735480" indent="-28296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econd Outline Level</a:t>
            </a:r>
            <a:endParaRPr b="0" lang="en-US" sz="3200" spc="-1" strike="noStrike">
              <a:solidFill>
                <a:srgbClr val="800080"/>
              </a:solidFill>
              <a:latin typeface="Times New Roman"/>
            </a:endParaRPr>
          </a:p>
          <a:p>
            <a:pPr lvl="2" marL="113148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Third Outline Level</a:t>
            </a:r>
            <a:endParaRPr b="0" lang="en-US" sz="3200" spc="-1" strike="noStrike">
              <a:solidFill>
                <a:srgbClr val="800080"/>
              </a:solidFill>
              <a:latin typeface="Times New Roman"/>
            </a:endParaRPr>
          </a:p>
          <a:p>
            <a:pPr lvl="3" marL="158400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ourth Outline Level</a:t>
            </a:r>
            <a:endParaRPr b="0" lang="en-US" sz="3200" spc="-1" strike="noStrike">
              <a:solidFill>
                <a:srgbClr val="800080"/>
              </a:solidFill>
              <a:latin typeface="Times New Roman"/>
            </a:endParaRPr>
          </a:p>
          <a:p>
            <a:pPr lvl="4"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ifth Outline Level</a:t>
            </a:r>
            <a:endParaRPr b="0" lang="en-US" sz="3200" spc="-1" strike="noStrike">
              <a:solidFill>
                <a:srgbClr val="80008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ixth Outline Level</a:t>
            </a:r>
            <a:endParaRPr b="0" lang="en-US" sz="3200" spc="-1" strike="noStrike">
              <a:solidFill>
                <a:srgbClr val="80008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eventh Outline Level</a:t>
            </a:r>
            <a:endParaRPr b="0" lang="en-US" sz="3200" spc="-1" strike="noStrike">
              <a:solidFill>
                <a:srgbClr val="800080"/>
              </a:solidFill>
              <a:latin typeface="Times New Roman"/>
            </a:endParaRPr>
          </a:p>
        </p:txBody>
      </p:sp>
      <p:sp>
        <p:nvSpPr>
          <p:cNvPr id="2" name="PlaceHolder 3"/>
          <p:cNvSpPr>
            <a:spLocks noGrp="1"/>
          </p:cNvSpPr>
          <p:nvPr>
            <p:ph type="ftr" idx="1"/>
          </p:nvPr>
        </p:nvSpPr>
        <p:spPr>
          <a:xfrm>
            <a:off x="6171840" y="6552720"/>
            <a:ext cx="28954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66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Times New Roman"/>
              </a:rPr>
              <a:t>Social Studies School Service</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sp>
        <p:nvSpPr>
          <p:cNvPr id="46" name=""/>
          <p:cNvSpPr/>
          <p:nvPr/>
        </p:nvSpPr>
        <p:spPr>
          <a:xfrm>
            <a:off x="932040" y="4114800"/>
            <a:ext cx="72388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The World in Spatial Terms</a:t>
            </a:r>
            <a:endParaRPr b="0" lang="en-US" sz="6600" spc="-1" strike="noStrike">
              <a:solidFill>
                <a:srgbClr val="000000"/>
              </a:solidFill>
              <a:latin typeface="Times New Roman"/>
            </a:endParaRPr>
          </a:p>
        </p:txBody>
      </p:sp>
      <p:pic>
        <p:nvPicPr>
          <p:cNvPr id="47" name="" descr=""/>
          <p:cNvPicPr/>
          <p:nvPr/>
        </p:nvPicPr>
        <p:blipFill>
          <a:blip r:embed="rId1"/>
          <a:stretch/>
        </p:blipFill>
        <p:spPr>
          <a:xfrm>
            <a:off x="304920" y="380880"/>
            <a:ext cx="2724120" cy="3353040"/>
          </a:xfrm>
          <a:prstGeom prst="rect">
            <a:avLst/>
          </a:prstGeom>
          <a:ln w="0">
            <a:noFill/>
          </a:ln>
        </p:spPr>
      </p:pic>
      <p:pic>
        <p:nvPicPr>
          <p:cNvPr id="48" name="" descr=""/>
          <p:cNvPicPr/>
          <p:nvPr/>
        </p:nvPicPr>
        <p:blipFill>
          <a:blip r:embed="rId2"/>
          <a:stretch/>
        </p:blipFill>
        <p:spPr>
          <a:xfrm>
            <a:off x="4191120" y="762120"/>
            <a:ext cx="4230720" cy="270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sp>
        <p:nvSpPr>
          <p:cNvPr id="67" name=""/>
          <p:cNvSpPr/>
          <p:nvPr/>
        </p:nvSpPr>
        <p:spPr>
          <a:xfrm>
            <a:off x="1295280" y="617220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matic Map: Land Use in Canada</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2743200" y="4495680"/>
            <a:ext cx="3848040" cy="1532160"/>
          </a:xfrm>
          <a:prstGeom prst="rect">
            <a:avLst/>
          </a:prstGeom>
          <a:ln w="0">
            <a:noFill/>
          </a:ln>
        </p:spPr>
      </p:pic>
      <p:pic>
        <p:nvPicPr>
          <p:cNvPr id="69" name="" descr=""/>
          <p:cNvPicPr/>
          <p:nvPr/>
        </p:nvPicPr>
        <p:blipFill>
          <a:blip r:embed="rId2"/>
          <a:stretch/>
        </p:blipFill>
        <p:spPr>
          <a:xfrm>
            <a:off x="1506600" y="262080"/>
            <a:ext cx="6114960" cy="391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447920" y="228600"/>
            <a:ext cx="6105240" cy="3911760"/>
          </a:xfrm>
          <a:prstGeom prst="rect">
            <a:avLst/>
          </a:prstGeom>
          <a:ln w="0">
            <a:noFill/>
          </a:ln>
        </p:spPr>
      </p:pic>
      <p:pic>
        <p:nvPicPr>
          <p:cNvPr id="71" name="" descr=""/>
          <p:cNvPicPr/>
          <p:nvPr/>
        </p:nvPicPr>
        <p:blipFill>
          <a:blip r:embed="rId2"/>
          <a:stretch/>
        </p:blipFill>
        <p:spPr>
          <a:xfrm>
            <a:off x="2666880" y="4419720"/>
            <a:ext cx="3848400" cy="1531800"/>
          </a:xfrm>
          <a:prstGeom prst="rect">
            <a:avLst/>
          </a:prstGeom>
          <a:ln w="0">
            <a:noFill/>
          </a:ln>
        </p:spPr>
      </p:pic>
      <p:sp>
        <p:nvSpPr>
          <p:cNvPr id="72" name=""/>
          <p:cNvSpPr/>
          <p:nvPr/>
        </p:nvSpPr>
        <p:spPr>
          <a:xfrm>
            <a:off x="1143000" y="617220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matic Map: Australia’s Precipi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04760" y="538200"/>
            <a:ext cx="8915400" cy="571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04760" y="533520"/>
            <a:ext cx="8921880" cy="571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04760" y="527040"/>
            <a:ext cx="892188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360" y="496800"/>
            <a:ext cx="8931240" cy="572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533520"/>
            <a:ext cx="3857760" cy="5819760"/>
          </a:xfrm>
          <a:prstGeom prst="rect">
            <a:avLst/>
          </a:prstGeom>
          <a:ln w="0">
            <a:noFill/>
          </a:ln>
        </p:spPr>
      </p:pic>
      <p:sp>
        <p:nvSpPr>
          <p:cNvPr id="78" name=""/>
          <p:cNvSpPr/>
          <p:nvPr/>
        </p:nvSpPr>
        <p:spPr>
          <a:xfrm>
            <a:off x="4800600" y="1981080"/>
            <a:ext cx="4114800" cy="247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ographical Map:</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of Hebgen Lake,  Montana-Wyoming-Idaho quadrangle (from the United States Geological Surv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762120" y="914400"/>
            <a:ext cx="8129520" cy="3738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676520" y="380880"/>
            <a:ext cx="7257960" cy="5443560"/>
          </a:xfrm>
          <a:prstGeom prst="rect">
            <a:avLst/>
          </a:prstGeom>
          <a:ln w="0">
            <a:noFill/>
          </a:ln>
        </p:spPr>
      </p:pic>
      <p:sp>
        <p:nvSpPr>
          <p:cNvPr id="81" name=""/>
          <p:cNvSpPr/>
          <p:nvPr/>
        </p:nvSpPr>
        <p:spPr>
          <a:xfrm>
            <a:off x="985680" y="6019920"/>
            <a:ext cx="7086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ge of Persons in Northeastern Illinois Who Are Asian (from 2000 U.S. Census)</a:t>
            </a:r>
            <a:endParaRPr b="0" lang="en-US" sz="2000" spc="-1" strike="noStrike">
              <a:solidFill>
                <a:srgbClr val="000000"/>
              </a:solidFill>
              <a:latin typeface="Times New Roman"/>
            </a:endParaRPr>
          </a:p>
        </p:txBody>
      </p:sp>
      <p:pic>
        <p:nvPicPr>
          <p:cNvPr id="82" name="" descr=""/>
          <p:cNvPicPr/>
          <p:nvPr/>
        </p:nvPicPr>
        <p:blipFill>
          <a:blip r:embed="rId2"/>
          <a:stretch/>
        </p:blipFill>
        <p:spPr>
          <a:xfrm>
            <a:off x="380880" y="1752480"/>
            <a:ext cx="1190880" cy="2305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816120" y="228600"/>
            <a:ext cx="7543800" cy="5657760"/>
          </a:xfrm>
          <a:prstGeom prst="rect">
            <a:avLst/>
          </a:prstGeom>
          <a:ln w="0">
            <a:noFill/>
          </a:ln>
        </p:spPr>
      </p:pic>
      <p:sp>
        <p:nvSpPr>
          <p:cNvPr id="84" name=""/>
          <p:cNvSpPr/>
          <p:nvPr/>
        </p:nvSpPr>
        <p:spPr>
          <a:xfrm>
            <a:off x="985680" y="6035760"/>
            <a:ext cx="7086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 of Persons Who Are Asian Alone by county (from 2000 U.S. Cens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792000" y="609480"/>
            <a:ext cx="7629840" cy="4886280"/>
          </a:xfrm>
          <a:prstGeom prst="rect">
            <a:avLst/>
          </a:prstGeom>
          <a:ln w="0">
            <a:noFill/>
          </a:ln>
        </p:spPr>
      </p:pic>
      <p:sp>
        <p:nvSpPr>
          <p:cNvPr id="50" name=""/>
          <p:cNvSpPr/>
          <p:nvPr/>
        </p:nvSpPr>
        <p:spPr>
          <a:xfrm>
            <a:off x="2286000" y="5867280"/>
            <a:ext cx="43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p Sc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11240" y="468360"/>
            <a:ext cx="8912160" cy="570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08000" y="444600"/>
            <a:ext cx="8931240" cy="57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08000" y="392040"/>
            <a:ext cx="8931240" cy="572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57200" y="380880"/>
            <a:ext cx="5133960" cy="5915160"/>
          </a:xfrm>
          <a:prstGeom prst="rect">
            <a:avLst/>
          </a:prstGeom>
          <a:ln w="0">
            <a:noFill/>
          </a:ln>
        </p:spPr>
      </p:pic>
      <p:sp>
        <p:nvSpPr>
          <p:cNvPr id="89" name=""/>
          <p:cNvSpPr/>
          <p:nvPr/>
        </p:nvSpPr>
        <p:spPr>
          <a:xfrm>
            <a:off x="6019920" y="1295280"/>
            <a:ext cx="2743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hn Snow’s map of cholera deaths in London, 1840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25280" y="380880"/>
            <a:ext cx="8931240" cy="5721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sp>
        <p:nvSpPr>
          <p:cNvPr id="91" name=""/>
          <p:cNvSpPr/>
          <p:nvPr/>
        </p:nvSpPr>
        <p:spPr>
          <a:xfrm>
            <a:off x="914400" y="762120"/>
            <a:ext cx="72388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Mental Maps</a:t>
            </a:r>
            <a:endParaRPr b="0" lang="en-US" sz="6600" spc="-1" strike="noStrike">
              <a:solidFill>
                <a:srgbClr val="000000"/>
              </a:solidFill>
              <a:latin typeface="Times New Roman"/>
            </a:endParaRPr>
          </a:p>
        </p:txBody>
      </p:sp>
      <p:pic>
        <p:nvPicPr>
          <p:cNvPr id="92" name="" descr=""/>
          <p:cNvPicPr/>
          <p:nvPr/>
        </p:nvPicPr>
        <p:blipFill>
          <a:blip r:embed="rId1"/>
          <a:stretch/>
        </p:blipFill>
        <p:spPr>
          <a:xfrm>
            <a:off x="3352680" y="2590920"/>
            <a:ext cx="2365560" cy="236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506520" y="781200"/>
            <a:ext cx="8129520" cy="5294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06520" y="619200"/>
            <a:ext cx="8129520" cy="561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06520" y="277920"/>
            <a:ext cx="8129520" cy="630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506520" y="720720"/>
            <a:ext cx="8129520" cy="541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73200" y="609480"/>
            <a:ext cx="7791480" cy="4991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sp>
        <p:nvSpPr>
          <p:cNvPr id="97" name=""/>
          <p:cNvSpPr/>
          <p:nvPr/>
        </p:nvSpPr>
        <p:spPr>
          <a:xfrm>
            <a:off x="990720" y="2514600"/>
            <a:ext cx="72388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Your State</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sp>
        <p:nvSpPr>
          <p:cNvPr id="98" name=""/>
          <p:cNvSpPr/>
          <p:nvPr/>
        </p:nvSpPr>
        <p:spPr>
          <a:xfrm>
            <a:off x="990720" y="2514600"/>
            <a:ext cx="72388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Africa</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sp>
        <p:nvSpPr>
          <p:cNvPr id="99" name=""/>
          <p:cNvSpPr/>
          <p:nvPr/>
        </p:nvSpPr>
        <p:spPr>
          <a:xfrm>
            <a:off x="990720" y="2514600"/>
            <a:ext cx="72388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The World</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sp>
        <p:nvSpPr>
          <p:cNvPr id="100" name=""/>
          <p:cNvSpPr/>
          <p:nvPr/>
        </p:nvSpPr>
        <p:spPr>
          <a:xfrm>
            <a:off x="990720" y="1066680"/>
            <a:ext cx="72388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Atlanta, Georgia</a:t>
            </a:r>
            <a:endParaRPr b="0" lang="en-US" sz="6600" spc="-1" strike="noStrike">
              <a:solidFill>
                <a:srgbClr val="000000"/>
              </a:solidFill>
              <a:latin typeface="Times New Roman"/>
            </a:endParaRPr>
          </a:p>
        </p:txBody>
      </p:sp>
      <p:sp>
        <p:nvSpPr>
          <p:cNvPr id="101" name=""/>
          <p:cNvSpPr/>
          <p:nvPr/>
        </p:nvSpPr>
        <p:spPr>
          <a:xfrm>
            <a:off x="139680" y="4876920"/>
            <a:ext cx="88390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Seattle, Washington</a:t>
            </a:r>
            <a:endParaRPr b="0" lang="en-US" sz="6600" spc="-1" strike="noStrike">
              <a:solidFill>
                <a:srgbClr val="000000"/>
              </a:solidFill>
              <a:latin typeface="Times New Roman"/>
            </a:endParaRPr>
          </a:p>
        </p:txBody>
      </p:sp>
      <p:sp>
        <p:nvSpPr>
          <p:cNvPr id="102" name=""/>
          <p:cNvSpPr/>
          <p:nvPr/>
        </p:nvSpPr>
        <p:spPr>
          <a:xfrm>
            <a:off x="3352680" y="3048120"/>
            <a:ext cx="25909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to</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45960" y="304920"/>
            <a:ext cx="8458200" cy="5418000"/>
          </a:xfrm>
          <a:prstGeom prst="rect">
            <a:avLst/>
          </a:prstGeom>
          <a:ln w="0">
            <a:noFill/>
          </a:ln>
        </p:spPr>
      </p:pic>
      <p:sp>
        <p:nvSpPr>
          <p:cNvPr id="104" name=""/>
          <p:cNvSpPr/>
          <p:nvPr/>
        </p:nvSpPr>
        <p:spPr>
          <a:xfrm>
            <a:off x="228600" y="6019920"/>
            <a:ext cx="8610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are the population centers in the United St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27040" y="304920"/>
            <a:ext cx="8129520" cy="5243400"/>
          </a:xfrm>
          <a:prstGeom prst="rect">
            <a:avLst/>
          </a:prstGeom>
          <a:ln w="0">
            <a:noFill/>
          </a:ln>
        </p:spPr>
      </p:pic>
      <p:sp>
        <p:nvSpPr>
          <p:cNvPr id="106" name=""/>
          <p:cNvSpPr/>
          <p:nvPr/>
        </p:nvSpPr>
        <p:spPr>
          <a:xfrm>
            <a:off x="914400" y="59436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Angeles: City and Subur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63480" y="304920"/>
            <a:ext cx="7844040" cy="5645160"/>
          </a:xfrm>
          <a:prstGeom prst="rect">
            <a:avLst/>
          </a:prstGeom>
          <a:ln w="0">
            <a:noFill/>
          </a:ln>
        </p:spPr>
      </p:pic>
      <p:sp>
        <p:nvSpPr>
          <p:cNvPr id="108" name=""/>
          <p:cNvSpPr/>
          <p:nvPr/>
        </p:nvSpPr>
        <p:spPr>
          <a:xfrm>
            <a:off x="1143000" y="60199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Vegas, Nevada, 197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33240" y="304920"/>
            <a:ext cx="7848720" cy="5648040"/>
          </a:xfrm>
          <a:prstGeom prst="rect">
            <a:avLst/>
          </a:prstGeom>
          <a:ln w="0">
            <a:noFill/>
          </a:ln>
        </p:spPr>
      </p:pic>
      <p:sp>
        <p:nvSpPr>
          <p:cNvPr id="110" name=""/>
          <p:cNvSpPr/>
          <p:nvPr/>
        </p:nvSpPr>
        <p:spPr>
          <a:xfrm>
            <a:off x="1066680" y="609588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Vegas, Nevada, 199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06520" y="509760"/>
            <a:ext cx="8129520" cy="5802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sp>
        <p:nvSpPr>
          <p:cNvPr id="112" name=""/>
          <p:cNvSpPr/>
          <p:nvPr/>
        </p:nvSpPr>
        <p:spPr>
          <a:xfrm>
            <a:off x="1752480" y="5943600"/>
            <a:ext cx="5791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y apartment buildings</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533520" y="380880"/>
            <a:ext cx="8129520" cy="524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80880" y="247680"/>
            <a:ext cx="3565800" cy="5942160"/>
          </a:xfrm>
          <a:prstGeom prst="rect">
            <a:avLst/>
          </a:prstGeom>
          <a:ln w="0">
            <a:noFill/>
          </a:ln>
        </p:spPr>
      </p:pic>
      <p:pic>
        <p:nvPicPr>
          <p:cNvPr id="53" name="" descr=""/>
          <p:cNvPicPr/>
          <p:nvPr/>
        </p:nvPicPr>
        <p:blipFill>
          <a:blip r:embed="rId2"/>
          <a:stretch/>
        </p:blipFill>
        <p:spPr>
          <a:xfrm>
            <a:off x="4800600" y="252360"/>
            <a:ext cx="3565440" cy="5942160"/>
          </a:xfrm>
          <a:prstGeom prst="rect">
            <a:avLst/>
          </a:prstGeom>
          <a:ln w="0">
            <a:noFill/>
          </a:ln>
        </p:spPr>
      </p:pic>
      <p:sp>
        <p:nvSpPr>
          <p:cNvPr id="54" name=""/>
          <p:cNvSpPr/>
          <p:nvPr/>
        </p:nvSpPr>
        <p:spPr>
          <a:xfrm>
            <a:off x="762120" y="617220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4,000</a:t>
            </a:r>
            <a:endParaRPr b="0" lang="en-US" sz="2400" spc="-1" strike="noStrike">
              <a:solidFill>
                <a:srgbClr val="000000"/>
              </a:solidFill>
              <a:latin typeface="Times New Roman"/>
            </a:endParaRPr>
          </a:p>
        </p:txBody>
      </p:sp>
      <p:sp>
        <p:nvSpPr>
          <p:cNvPr id="55" name=""/>
          <p:cNvSpPr/>
          <p:nvPr/>
        </p:nvSpPr>
        <p:spPr>
          <a:xfrm>
            <a:off x="5181480" y="6172200"/>
            <a:ext cx="289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50,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sp>
        <p:nvSpPr>
          <p:cNvPr id="114" name=""/>
          <p:cNvSpPr/>
          <p:nvPr/>
        </p:nvSpPr>
        <p:spPr>
          <a:xfrm>
            <a:off x="1600200" y="5943600"/>
            <a:ext cx="594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y town homes</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838080" y="304920"/>
            <a:ext cx="7315200" cy="5195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sp>
        <p:nvSpPr>
          <p:cNvPr id="116" name=""/>
          <p:cNvSpPr/>
          <p:nvPr/>
        </p:nvSpPr>
        <p:spPr>
          <a:xfrm>
            <a:off x="3124080" y="60958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urban house</a:t>
            </a:r>
            <a:endParaRPr b="0" lang="en-US" sz="2400" spc="-1" strike="noStrike">
              <a:solidFill>
                <a:srgbClr val="000000"/>
              </a:solidFill>
              <a:latin typeface="Times New Roman"/>
            </a:endParaRPr>
          </a:p>
        </p:txBody>
      </p:sp>
      <p:pic>
        <p:nvPicPr>
          <p:cNvPr id="117" name="" descr=""/>
          <p:cNvPicPr/>
          <p:nvPr/>
        </p:nvPicPr>
        <p:blipFill>
          <a:blip r:embed="rId1"/>
          <a:stretch/>
        </p:blipFill>
        <p:spPr>
          <a:xfrm>
            <a:off x="533520" y="457200"/>
            <a:ext cx="8129520" cy="5405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sp>
        <p:nvSpPr>
          <p:cNvPr id="118" name=""/>
          <p:cNvSpPr/>
          <p:nvPr/>
        </p:nvSpPr>
        <p:spPr>
          <a:xfrm>
            <a:off x="2666880" y="6330960"/>
            <a:ext cx="3810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ry house</a:t>
            </a:r>
            <a:endParaRPr b="0" lang="en-US" sz="2400" spc="-1" strike="noStrike">
              <a:solidFill>
                <a:srgbClr val="000000"/>
              </a:solidFill>
              <a:latin typeface="Times New Roman"/>
            </a:endParaRPr>
          </a:p>
        </p:txBody>
      </p:sp>
      <p:pic>
        <p:nvPicPr>
          <p:cNvPr id="119" name="" descr=""/>
          <p:cNvPicPr/>
          <p:nvPr/>
        </p:nvPicPr>
        <p:blipFill>
          <a:blip r:embed="rId1"/>
          <a:stretch/>
        </p:blipFill>
        <p:spPr>
          <a:xfrm>
            <a:off x="609480" y="304920"/>
            <a:ext cx="7797960" cy="5954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622440" y="220680"/>
            <a:ext cx="7873920" cy="6348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295200" y="209520"/>
            <a:ext cx="8534520" cy="5675400"/>
          </a:xfrm>
          <a:prstGeom prst="rect">
            <a:avLst/>
          </a:prstGeom>
          <a:ln w="0">
            <a:noFill/>
          </a:ln>
        </p:spPr>
      </p:pic>
      <p:sp>
        <p:nvSpPr>
          <p:cNvPr id="122" name=""/>
          <p:cNvSpPr/>
          <p:nvPr/>
        </p:nvSpPr>
        <p:spPr>
          <a:xfrm>
            <a:off x="3124080" y="6095880"/>
            <a:ext cx="304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304920" y="304920"/>
            <a:ext cx="8458200" cy="5656320"/>
          </a:xfrm>
          <a:prstGeom prst="rect">
            <a:avLst/>
          </a:prstGeom>
          <a:ln w="0">
            <a:noFill/>
          </a:ln>
        </p:spPr>
      </p:pic>
      <p:sp>
        <p:nvSpPr>
          <p:cNvPr id="124" name=""/>
          <p:cNvSpPr/>
          <p:nvPr/>
        </p:nvSpPr>
        <p:spPr>
          <a:xfrm>
            <a:off x="2514600" y="624348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wntow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125" name="supermarket" descr=""/>
          <p:cNvPicPr/>
          <p:nvPr/>
        </p:nvPicPr>
        <p:blipFill>
          <a:blip r:embed="rId1"/>
          <a:stretch/>
        </p:blipFill>
        <p:spPr>
          <a:xfrm>
            <a:off x="380880" y="647640"/>
            <a:ext cx="8382240" cy="5562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28600" y="595440"/>
            <a:ext cx="8620200" cy="5521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80960" y="1023840"/>
            <a:ext cx="8129520" cy="4329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471600" y="36180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sp>
        <p:nvSpPr>
          <p:cNvPr id="56" name=""/>
          <p:cNvSpPr/>
          <p:nvPr/>
        </p:nvSpPr>
        <p:spPr>
          <a:xfrm>
            <a:off x="990720" y="609588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e</a:t>
            </a:r>
            <a:endParaRPr b="0" lang="en-US" sz="2400" spc="-1" strike="noStrike">
              <a:solidFill>
                <a:srgbClr val="000000"/>
              </a:solidFill>
              <a:latin typeface="Times New Roman"/>
            </a:endParaRPr>
          </a:p>
        </p:txBody>
      </p:sp>
      <p:pic>
        <p:nvPicPr>
          <p:cNvPr id="57" name="" descr=""/>
          <p:cNvPicPr/>
          <p:nvPr/>
        </p:nvPicPr>
        <p:blipFill>
          <a:blip r:embed="rId1"/>
          <a:stretch/>
        </p:blipFill>
        <p:spPr>
          <a:xfrm>
            <a:off x="2505240" y="380880"/>
            <a:ext cx="4519440" cy="5562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506520" y="716040"/>
            <a:ext cx="8129520" cy="54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369720" y="712800"/>
            <a:ext cx="8401320" cy="538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28600" y="595440"/>
            <a:ext cx="8620200" cy="5521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sp>
        <p:nvSpPr>
          <p:cNvPr id="132" name=""/>
          <p:cNvSpPr/>
          <p:nvPr/>
        </p:nvSpPr>
        <p:spPr>
          <a:xfrm>
            <a:off x="6019920" y="24382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natown</a:t>
            </a:r>
            <a:endParaRPr b="0" lang="en-US" sz="2400" spc="-1" strike="noStrike">
              <a:solidFill>
                <a:srgbClr val="000000"/>
              </a:solidFill>
              <a:latin typeface="Times New Roman"/>
            </a:endParaRPr>
          </a:p>
        </p:txBody>
      </p:sp>
      <p:pic>
        <p:nvPicPr>
          <p:cNvPr id="133" name="" descr=""/>
          <p:cNvPicPr/>
          <p:nvPr/>
        </p:nvPicPr>
        <p:blipFill>
          <a:blip r:embed="rId1"/>
          <a:stretch/>
        </p:blipFill>
        <p:spPr>
          <a:xfrm>
            <a:off x="1066680" y="762120"/>
            <a:ext cx="3737160" cy="5181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792000" y="609480"/>
            <a:ext cx="7629840" cy="4886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sp>
        <p:nvSpPr>
          <p:cNvPr id="135" name=""/>
          <p:cNvSpPr/>
          <p:nvPr/>
        </p:nvSpPr>
        <p:spPr>
          <a:xfrm>
            <a:off x="932040" y="4114800"/>
            <a:ext cx="72388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The World in Spatial Terms</a:t>
            </a:r>
            <a:endParaRPr b="0" lang="en-US" sz="6600" spc="-1" strike="noStrike">
              <a:solidFill>
                <a:srgbClr val="000000"/>
              </a:solidFill>
              <a:latin typeface="Times New Roman"/>
            </a:endParaRPr>
          </a:p>
        </p:txBody>
      </p:sp>
      <p:pic>
        <p:nvPicPr>
          <p:cNvPr id="136" name="" descr=""/>
          <p:cNvPicPr/>
          <p:nvPr/>
        </p:nvPicPr>
        <p:blipFill>
          <a:blip r:embed="rId1"/>
          <a:stretch/>
        </p:blipFill>
        <p:spPr>
          <a:xfrm>
            <a:off x="304920" y="380880"/>
            <a:ext cx="2724120" cy="3353040"/>
          </a:xfrm>
          <a:prstGeom prst="rect">
            <a:avLst/>
          </a:prstGeom>
          <a:ln w="0">
            <a:noFill/>
          </a:ln>
        </p:spPr>
      </p:pic>
      <p:pic>
        <p:nvPicPr>
          <p:cNvPr id="137" name="" descr=""/>
          <p:cNvPicPr/>
          <p:nvPr/>
        </p:nvPicPr>
        <p:blipFill>
          <a:blip r:embed="rId2"/>
          <a:stretch/>
        </p:blipFill>
        <p:spPr>
          <a:xfrm>
            <a:off x="4191120" y="762120"/>
            <a:ext cx="4230720" cy="270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33520" y="457200"/>
            <a:ext cx="8076960" cy="5175360"/>
          </a:xfrm>
          <a:prstGeom prst="rect">
            <a:avLst/>
          </a:prstGeom>
          <a:ln w="0">
            <a:noFill/>
          </a:ln>
        </p:spPr>
      </p:pic>
      <p:sp>
        <p:nvSpPr>
          <p:cNvPr id="59" name=""/>
          <p:cNvSpPr/>
          <p:nvPr/>
        </p:nvSpPr>
        <p:spPr>
          <a:xfrm>
            <a:off x="3276720" y="609588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ld Ma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sp>
        <p:nvSpPr>
          <p:cNvPr id="60" name=""/>
          <p:cNvSpPr/>
          <p:nvPr/>
        </p:nvSpPr>
        <p:spPr>
          <a:xfrm>
            <a:off x="2057400" y="541008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rcator map projection</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268200" y="1066680"/>
            <a:ext cx="8596440" cy="376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92240" y="1523880"/>
            <a:ext cx="8705520" cy="3219480"/>
          </a:xfrm>
          <a:prstGeom prst="rect">
            <a:avLst/>
          </a:prstGeom>
          <a:ln w="0">
            <a:noFill/>
          </a:ln>
        </p:spPr>
      </p:pic>
      <p:sp>
        <p:nvSpPr>
          <p:cNvPr id="63" name=""/>
          <p:cNvSpPr/>
          <p:nvPr/>
        </p:nvSpPr>
        <p:spPr>
          <a:xfrm>
            <a:off x="2057400" y="541008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binson map proj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lin ang="13500000"/>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600200" y="228600"/>
            <a:ext cx="7257960" cy="5443560"/>
          </a:xfrm>
          <a:prstGeom prst="rect">
            <a:avLst/>
          </a:prstGeom>
          <a:ln w="0">
            <a:noFill/>
          </a:ln>
        </p:spPr>
      </p:pic>
      <p:sp>
        <p:nvSpPr>
          <p:cNvPr id="65" name=""/>
          <p:cNvSpPr/>
          <p:nvPr/>
        </p:nvSpPr>
        <p:spPr>
          <a:xfrm>
            <a:off x="2133720" y="5670720"/>
            <a:ext cx="5181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ntage of Persons age 65 years and over (2000 census)</a:t>
            </a:r>
            <a:br>
              <a:rPr sz="2400"/>
            </a:br>
            <a:endParaRPr b="0" lang="en-US" sz="2400" spc="-1" strike="noStrike">
              <a:solidFill>
                <a:srgbClr val="000000"/>
              </a:solidFill>
              <a:latin typeface="Times New Roman"/>
            </a:endParaRPr>
          </a:p>
        </p:txBody>
      </p:sp>
      <p:pic>
        <p:nvPicPr>
          <p:cNvPr id="66" name="" descr=""/>
          <p:cNvPicPr/>
          <p:nvPr/>
        </p:nvPicPr>
        <p:blipFill>
          <a:blip r:embed="rId2"/>
          <a:stretch/>
        </p:blipFill>
        <p:spPr>
          <a:xfrm>
            <a:off x="304920" y="1523880"/>
            <a:ext cx="1190520" cy="23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9T17:53:13Z</dcterms:created>
  <dc:creator>Betsy Hedberg</dc:creator>
  <dc:description/>
  <dc:language>en-US</dc:language>
  <cp:lastModifiedBy>Andrew Pannell</cp:lastModifiedBy>
  <cp:lastPrinted>2004-03-22T21:54:31Z</cp:lastPrinted>
  <dcterms:modified xsi:type="dcterms:W3CDTF">2004-09-02T18:21:35Z</dcterms:modified>
  <cp:revision>329</cp:revision>
  <dc:subject/>
  <dc:title>No Slide Title</dc:title>
</cp:coreProperties>
</file>